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4481-7731-4809-B112-3964F54BC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quick review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es is a disease in which glucose can not be efficiently metabolized for energy.  This affects both the use of glucose and the storage of glucose.  There are several types of diabe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1 Diabetes was formerly known as juvenile onset, and later as insulin dependent diabetes (IDDM).  The onset is rapid and occurs because the cells which produce insulin, the beta cells of the Islets of Langerhans in the Pancreas are destroyed.  Persons with Type 1 Diabetes cannot produce insulin and require exogenous insul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2 Diabetes was formerly known as adult onset, then later as non-insulin dependent diabetes (NIDDM).  The onset is insidious.  There are two causes.  The first is that the pancreas does not produce insulin in the quantity needed and the other is that the cells are resistant to receiving the insulin.  For whatever reason, the receptor cells of the cells are just not sensitive to the insulin when the insulin tries to open up the gates for the glucose to enter the cells.  Sometimes Type 2 Diabetes is a combination of both causes.  The blood glucose levels are high and the blood insulin levels are low.  Other times, the Type 2 Diabetes is only a cause of insulin resistance and the person actually has normal or even elevated insulin levels in their blood, but the insulin, unable to interact with the cells, is usel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ng between Type 1 and Type 2 Diabetes is important when determining dietary needs of the patient.  Type 1 Diabetics tend to have more unstable blood sugars and experience hypoglycemic and hyperglycemic events more dramatica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types of diabetes are temporary in nature.  Gestational diabetes is an example where the pregnant woman requires insulin and must follow a diabetic diet during pregnancy, but the carbohydrate metabolism and glucose control returns to normal shortly after delive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events that will cause a temporary rise in blood sugars are stress, illness, and some medications.  Because of the complications of hyperglycemia, many surgeons are placing post-op patients on sliding scale insulin orders for the first several days following surgery to be sure the blood glucose levels stay below 120.  Research has shown this practice is promoting better wound healing and fewer infections.  Many patients receiving prednisone for more than a few days require exogenous insulin and are placed on a sliding scale until weaned off the prednisone and the glucose levels return to normal.  In most cases, these temporary forms of diabetes do not necessitate a diabetic diet, but consistent, balanced diets with between meal snacks is helpful to prevent maintain more controlled blood sugars and lessen the occurrence of hypoglycemic events following insulin admin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uses exogenous insulin just as well as endogenous insulin.  When insulin was derived from pork, there were some allergy and religious concerns, but most insulin is now derived synthetically and there are no more religious concerns.  There are a small number of people allergic to the newer insulins, but being allergic to pork is no longer an 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differ is the dynamics of carbohydrate metabolism, especially as it relates to glycemic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ycemic index of a food refers to how high the blood sugar is raised for the immediate 2 hours after consumption.  The higher the blood glucose, the higher the glycemic index.  Low carb diets focus on low glycemic index foods, but there is no research to suggest that low glycemic index foods are healthier for the diabetic than high glycemic index foods.  In fact, some simple complex carbohydrates have just as high glycemic indexes as some simple sugars.  Therefore, the American Diabetic Association does not promote the use of low vs high glycemic index foods when considering a diabetic diet.  The ADA focuses on overall calories.  Still, the glycemic index does illustrate how the blood sugar waxes and wanes following a meal or snac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a hypothetical daily meal plan.  Not much breakfast, but a large Danish with a coffee latte mid morning.  Then a healthy lunch at MacDonald’s and a reasonable well balanced supper.  Then it’s off to Curley’s Pub to watch the Red Sox beat the Yankees and 3 or 4 20 oz beers (someone else is the designated driver ton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non-diabetic, the insulin levels keep pace with the rise and fall of the glucose levels.  That’s what’s supposed to happ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for the diabetic who requires exogenous insulin, the onset, peak, and duration times of the different insulins do not follow the ups and downs of the glucose levels.  The same is true for Type 2 diabetics who are taking oral hypoglycemic agents.  Diabetics need to follow a diet that maintains a steady, consistent blood glucose level.  And that’s why dietary compliance is so important for diabetic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is important for the diabetic.  Exercise can help to prevent obesity, help to prevent Type 2 diabetes, and help to prevent the cardiovascular events associated with diabetes.  The obesity epidemic in our nation is accompanied with an increase in Type 2 diabetes in children.  Type 2 diabetes, whether child or adult, can often be treated with diet and exercise alo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uous activity does burn calories and may precipitate a hypoglycemic episode.  People who are going to exercise rigorously, or children who are playing rigorously, may need to increase caloric intake prior to exercising.  It is important for the diabetic to have a source of energy (food) readily available when exercising or playing hard.  This is part of the diabetic teaching for children with Type 1 diabetes.  Be a child, participate in all chosen childhood activities, but keep a food source with you in case of a hypoglycemic ev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the diabetic consume each day?  It depends upon the number of calories allowed per day.  Otherwise, the carbohydrate makeup of those calories is very similar to the recommendations for all America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ing saturated fats and cholesterol is especially important for the diabetic because diabetes increases the risk for cardiovascular events (hypertension, heart attack, and stro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preventing constipation, lowering cholesterol, stabilizing blood sugars, and preventing some forms of canc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tein needs of the diabetic are the same as non-diabetics.  There is some concern that high protein diabetics may put the diabetic at even greater risk for chronic kidney failure.  In addition, high protein diets are often high in saturated f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can safely have an alcoholic beverage, not to exceed 2 drinks per day.  A drink at night, on an empty stomach, puts the person at greater risk for hypoglycemia while sleeping.  It’s best not to drink on an empty stomach.  It’s also best not to mix alcohol with high sugar content mixers like coke or orange ju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ll from Nutrition that metabolism increases during growth periods.  For the Type 1 diabetic, this may necessitate an increase in calories and a decrease in insulin.  Risk for hypoglycemic events is high during growth spu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the symptoms of hypoglycemia and keep a quick snack readily availa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acidosis results from a build up of the ketones released from the inefficient burning of fat for fuel rather than glucose.  Ketones cause a decrease in the blood’s normal pH, leading to metabolic acidosis.  Ketoacidosis can be caused by hyperglycemia when there is no insulin available to move the glucose into the cells, as well as hypoglycemia when there is no glucose available to burn (starv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a diet that delivers supplies a healthy dose of macronutrients and micronutrients is the keystone of ALL types of diabetic care.  It is important that the calories be spread out over the entire day to be sure the glucose levels stay fairly stable without creating severe highs and lows.  This means the diabetic should not only consume 3 balanced meals a day, but should also plan for mid meal snacks.  The physician orders the amount of calories allowed per day.  The American Diabetes Association offers tools to help with meal plan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are at greater risk to develop cardiovascular, renal, and opthalmic diseases.  These complications of diabetes can be prevented if the diabetes is well controlled with diet, exercise, and med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necessary to transport glucose from the blood to inside the cell.  It is only when the glucose is inside the cell that the glucose can be burned for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also needed to reconvert the single glucose molecules to the more complex glycogen molecules for storage in the liver and muscles.  Glycogen is the intermediate storage of carbohydrates, approximately 24 – 48 hours worth.  All other excess glucose molecules are stored as fat in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1F0B-1AE7-48F7-9EB0-C3300647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805D-B83D-405F-8E59-B3BAA0F92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3C77-C2E3-4451-BF45-15F64CAE2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66DA0-5EA8-4473-9D4F-E1DA74787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8539-0F5E-4346-9834-10F5A92E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B9C6-F29A-4A06-B5C0-1B5EE936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C8CCA-8928-42DD-9E98-63EC04C1D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1C781-4552-4F64-847C-A215B9E4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DCAE-2ABD-4E2B-849C-212F2C81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8492-7C73-462A-A95D-D26AC8625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09AE-F026-42D5-905C-CBCAEA62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F844-4684-4526-955F-5571954FE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13AE-5473-4148-BAF1-37720880D81E}"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BD7E-1F93-462C-9EA5-C972822A52DC}"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9846A2BB-07EA-4E29-BB3B-9249F8B7313D}" type="datetime10">
              <a:rPr b="1" lang="en-US" sz="1400" spc="-1" strike="noStrike">
                <a:solidFill>
                  <a:srgbClr val="99cc00"/>
                </a:solidFill>
                <a:latin typeface="Times New Roman"/>
              </a:rPr>
              <a:t>02:05</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Reviewing Carbohydrates</a:t>
            </a:r>
            <a:endParaRPr b="1" lang="en-US" sz="4400" spc="-1" strike="noStrike">
              <a:solidFill>
                <a:srgbClr val="333399"/>
              </a:solidFill>
              <a:latin typeface="Verdana"/>
            </a:endParaRPr>
          </a:p>
        </p:txBody>
      </p:sp>
      <p:pic>
        <p:nvPicPr>
          <p:cNvPr id="5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0"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1"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1 Diabetes </a:t>
            </a:r>
            <a:r>
              <a:rPr b="1" lang="en-US" sz="4000" spc="-1" strike="noStrike">
                <a:solidFill>
                  <a:srgbClr val="000000"/>
                </a:solidFill>
                <a:latin typeface="Times New Roman"/>
              </a:rPr>
              <a:t>– rapid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dy cannot produce insuli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2 Diabetes </a:t>
            </a:r>
            <a:r>
              <a:rPr b="1" lang="en-US" sz="4000" spc="-1" strike="noStrike">
                <a:solidFill>
                  <a:srgbClr val="000000"/>
                </a:solidFill>
                <a:latin typeface="Times New Roman"/>
              </a:rPr>
              <a:t>– slower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de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resist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an be bo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4"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estational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temporary during pregnanc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tress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illness, surgery, infe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rug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corticosteroids, beta bloc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nsulin</a:t>
            </a:r>
            <a:endParaRPr b="0" lang="en-US" sz="4400" spc="-1" strike="noStrike">
              <a:solidFill>
                <a:srgbClr val="000000"/>
              </a:solidFill>
              <a:latin typeface="Arial"/>
            </a:endParaRPr>
          </a:p>
        </p:txBody>
      </p:sp>
      <p:sp>
        <p:nvSpPr>
          <p:cNvPr id="216" name=""/>
          <p:cNvSpPr/>
          <p:nvPr/>
        </p:nvSpPr>
        <p:spPr>
          <a:xfrm>
            <a:off x="1143000" y="1295280"/>
            <a:ext cx="3657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nd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produced by the body</a:t>
            </a:r>
            <a:endParaRPr b="0" lang="en-US" sz="4000" spc="-1" strike="noStrike">
              <a:solidFill>
                <a:srgbClr val="000000"/>
              </a:solidFill>
              <a:latin typeface="Arial"/>
            </a:endParaRPr>
          </a:p>
        </p:txBody>
      </p:sp>
      <p:pic>
        <p:nvPicPr>
          <p:cNvPr id="217" name="" descr=""/>
          <p:cNvPicPr/>
          <p:nvPr/>
        </p:nvPicPr>
        <p:blipFill>
          <a:blip r:embed="rId1"/>
          <a:stretch/>
        </p:blipFill>
        <p:spPr>
          <a:xfrm>
            <a:off x="4876920" y="1295280"/>
            <a:ext cx="3819240" cy="2781360"/>
          </a:xfrm>
          <a:prstGeom prst="rect">
            <a:avLst/>
          </a:prstGeom>
          <a:ln w="0">
            <a:noFill/>
          </a:ln>
        </p:spPr>
      </p:pic>
      <p:sp>
        <p:nvSpPr>
          <p:cNvPr id="218" name=""/>
          <p:cNvSpPr/>
          <p:nvPr/>
        </p:nvSpPr>
        <p:spPr>
          <a:xfrm>
            <a:off x="1143000" y="4175280"/>
            <a:ext cx="373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given by injection</a:t>
            </a:r>
            <a:endParaRPr b="0" lang="en-US" sz="4000" spc="-1" strike="noStrike">
              <a:solidFill>
                <a:srgbClr val="000000"/>
              </a:solidFill>
              <a:latin typeface="Arial"/>
            </a:endParaRPr>
          </a:p>
        </p:txBody>
      </p:sp>
      <p:pic>
        <p:nvPicPr>
          <p:cNvPr id="219" name="" descr=""/>
          <p:cNvPicPr/>
          <p:nvPr/>
        </p:nvPicPr>
        <p:blipFill>
          <a:blip r:embed="rId2"/>
          <a:stretch/>
        </p:blipFill>
        <p:spPr>
          <a:xfrm>
            <a:off x="5867280" y="44197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2796480" y="1295280"/>
            <a:ext cx="3580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ycemic Index</a:t>
            </a:r>
            <a:endParaRPr b="0" lang="en-US" sz="4000" spc="-1" strike="noStrike">
              <a:solidFill>
                <a:srgbClr val="000000"/>
              </a:solidFill>
              <a:latin typeface="Arial"/>
            </a:endParaRPr>
          </a:p>
        </p:txBody>
      </p:sp>
      <p:sp>
        <p:nvSpPr>
          <p:cNvPr id="22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22" name="" descr=""/>
          <p:cNvPicPr/>
          <p:nvPr/>
        </p:nvPicPr>
        <p:blipFill>
          <a:blip r:embed="rId1"/>
          <a:stretch/>
        </p:blipFill>
        <p:spPr>
          <a:xfrm>
            <a:off x="1447920" y="1676520"/>
            <a:ext cx="594360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2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25"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3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33"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34340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514600" y="50292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581280" y="47242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86728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105520" y="44956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44" name=""/>
          <p:cNvSpPr/>
          <p:nvPr/>
        </p:nvSpPr>
        <p:spPr>
          <a:xfrm>
            <a:off x="1526040" y="327672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nd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714680" y="2133720"/>
            <a:ext cx="5715000" cy="4114800"/>
          </a:xfrm>
          <a:prstGeom prst="rect">
            <a:avLst/>
          </a:prstGeom>
          <a:ln w="0">
            <a:noFill/>
          </a:ln>
        </p:spPr>
      </p:pic>
      <p:sp>
        <p:nvSpPr>
          <p:cNvPr id="246"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4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48"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07320" y="20988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54" name=""/>
          <p:cNvSpPr/>
          <p:nvPr/>
        </p:nvSpPr>
        <p:spPr>
          <a:xfrm>
            <a:off x="1525320" y="251460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x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
          <p:cNvSpPr/>
          <p:nvPr/>
        </p:nvSpPr>
        <p:spPr>
          <a:xfrm>
            <a:off x="846360" y="1295280"/>
            <a:ext cx="7503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ercise and Glucose Metabolism</a:t>
            </a:r>
            <a:endParaRPr b="0" lang="en-US" sz="4000" spc="-1" strike="noStrike">
              <a:solidFill>
                <a:srgbClr val="000000"/>
              </a:solidFill>
              <a:latin typeface="Arial"/>
            </a:endParaRPr>
          </a:p>
        </p:txBody>
      </p:sp>
      <p:sp>
        <p:nvSpPr>
          <p:cNvPr id="256"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57" name="" descr=""/>
          <p:cNvPicPr/>
          <p:nvPr/>
        </p:nvPicPr>
        <p:blipFill>
          <a:blip r:embed="rId1"/>
          <a:stretch/>
        </p:blipFill>
        <p:spPr>
          <a:xfrm>
            <a:off x="609480" y="2438280"/>
            <a:ext cx="3200400" cy="3200400"/>
          </a:xfrm>
          <a:prstGeom prst="rect">
            <a:avLst/>
          </a:prstGeom>
          <a:ln w="0">
            <a:noFill/>
          </a:ln>
        </p:spPr>
      </p:pic>
      <p:sp>
        <p:nvSpPr>
          <p:cNvPr id="258" name=""/>
          <p:cNvSpPr/>
          <p:nvPr/>
        </p:nvSpPr>
        <p:spPr>
          <a:xfrm>
            <a:off x="3124080" y="220032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ily exercise recommended to prevent obesity and onset of Type 2 Diabetes.  Daily exercise may also help to delay cardiovascular complications associated with diabe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enuous activity may precipitate a hypoglycemic event, especially with exogenous insulin.  Plan ahead and keep carb foods readily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0" name="" descr=""/>
          <p:cNvPicPr/>
          <p:nvPr/>
        </p:nvPicPr>
        <p:blipFill>
          <a:blip r:embed="rId1"/>
          <a:stretch/>
        </p:blipFill>
        <p:spPr>
          <a:xfrm>
            <a:off x="2428920" y="228600"/>
            <a:ext cx="4286160" cy="1647720"/>
          </a:xfrm>
          <a:prstGeom prst="rect">
            <a:avLst/>
          </a:prstGeom>
          <a:ln w="0">
            <a:noFill/>
          </a:ln>
        </p:spPr>
      </p:pic>
      <p:sp>
        <p:nvSpPr>
          <p:cNvPr id="261" name=""/>
          <p:cNvSpPr/>
          <p:nvPr/>
        </p:nvSpPr>
        <p:spPr>
          <a:xfrm>
            <a:off x="304920" y="2209680"/>
            <a:ext cx="8534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arbohydrates</a:t>
            </a:r>
            <a:r>
              <a:rPr b="1" lang="en-US" sz="2400" spc="-1" strike="noStrike">
                <a:solidFill>
                  <a:srgbClr val="000000"/>
                </a:solidFill>
                <a:latin typeface="Times New Roman"/>
              </a:rPr>
              <a:t> from fruits, vegetables, whole grains, legumes, and low fat mi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carbohydrate diets (&lt; 130 g / day) are NOT recomm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be monitored for glycemic index and individual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ily soluble and nonsoluble fiber rich foods are encouraged (25 – 30 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ficial sweeteners are safe within FDA guid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3" name="" descr=""/>
          <p:cNvPicPr/>
          <p:nvPr/>
        </p:nvPicPr>
        <p:blipFill>
          <a:blip r:embed="rId1"/>
          <a:stretch/>
        </p:blipFill>
        <p:spPr>
          <a:xfrm>
            <a:off x="2428920" y="228600"/>
            <a:ext cx="4286160" cy="1647720"/>
          </a:xfrm>
          <a:prstGeom prst="rect">
            <a:avLst/>
          </a:prstGeom>
          <a:ln w="0">
            <a:noFill/>
          </a:ln>
        </p:spPr>
      </p:pic>
      <p:sp>
        <p:nvSpPr>
          <p:cNvPr id="264" name=""/>
          <p:cNvSpPr/>
          <p:nvPr/>
        </p:nvSpPr>
        <p:spPr>
          <a:xfrm>
            <a:off x="304920" y="2209680"/>
            <a:ext cx="85341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ats</a:t>
            </a:r>
            <a:r>
              <a:rPr b="1" lang="en-US" sz="2400" spc="-1" strike="noStrike">
                <a:solidFill>
                  <a:srgbClr val="000000"/>
                </a:solidFill>
                <a:latin typeface="Times New Roman"/>
              </a:rPr>
              <a:t> no more than 25% to 30% of daily caloric intake should come from fats (&lt; 7% from saturated f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lesterol should be restricted (&lt; 200 m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5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53"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6" name="" descr=""/>
          <p:cNvPicPr/>
          <p:nvPr/>
        </p:nvPicPr>
        <p:blipFill>
          <a:blip r:embed="rId1"/>
          <a:stretch/>
        </p:blipFill>
        <p:spPr>
          <a:xfrm>
            <a:off x="2428920" y="228600"/>
            <a:ext cx="4286160" cy="1647720"/>
          </a:xfrm>
          <a:prstGeom prst="rect">
            <a:avLst/>
          </a:prstGeom>
          <a:ln w="0">
            <a:noFill/>
          </a:ln>
        </p:spPr>
      </p:pic>
      <p:sp>
        <p:nvSpPr>
          <p:cNvPr id="267" name=""/>
          <p:cNvSpPr/>
          <p:nvPr/>
        </p:nvSpPr>
        <p:spPr>
          <a:xfrm>
            <a:off x="304920" y="2209680"/>
            <a:ext cx="853416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roteins</a:t>
            </a:r>
            <a:r>
              <a:rPr b="1" lang="en-US" sz="2400" spc="-1" strike="noStrike">
                <a:solidFill>
                  <a:srgbClr val="000000"/>
                </a:solidFill>
                <a:latin typeface="Times New Roman"/>
              </a:rPr>
              <a:t> should comprise 15% to 30% of the total daily caloric int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protein diets may are not recommended due to the unnecessary stress on the kidneys to excrete the excess nitro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9" name="" descr=""/>
          <p:cNvPicPr/>
          <p:nvPr/>
        </p:nvPicPr>
        <p:blipFill>
          <a:blip r:embed="rId1"/>
          <a:stretch/>
        </p:blipFill>
        <p:spPr>
          <a:xfrm>
            <a:off x="2428920" y="228600"/>
            <a:ext cx="4286160" cy="1647720"/>
          </a:xfrm>
          <a:prstGeom prst="rect">
            <a:avLst/>
          </a:prstGeom>
          <a:ln w="0">
            <a:noFill/>
          </a:ln>
        </p:spPr>
      </p:pic>
      <p:sp>
        <p:nvSpPr>
          <p:cNvPr id="270" name=""/>
          <p:cNvSpPr/>
          <p:nvPr/>
        </p:nvSpPr>
        <p:spPr>
          <a:xfrm>
            <a:off x="304920" y="2209680"/>
            <a:ext cx="8534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lcohol</a:t>
            </a:r>
            <a:r>
              <a:rPr b="1" lang="en-US" sz="2400" spc="-1" strike="noStrike">
                <a:solidFill>
                  <a:srgbClr val="000000"/>
                </a:solidFill>
                <a:latin typeface="Times New Roman"/>
              </a:rPr>
              <a:t> can be consumed in moderation.  Alcohol is best consumed with food to prevent nocturnal hypoglycemia.  Mixed drinks (with soda or juice) are more likely to increase blood glucose leve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 oz liqu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4 oz w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2 oz b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422000" y="1295280"/>
            <a:ext cx="637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abetes and Growth Spurts</a:t>
            </a:r>
            <a:endParaRPr b="0" lang="en-US" sz="4000" spc="-1" strike="noStrike">
              <a:solidFill>
                <a:srgbClr val="000000"/>
              </a:solidFill>
              <a:latin typeface="Arial"/>
            </a:endParaRPr>
          </a:p>
        </p:txBody>
      </p:sp>
      <p:sp>
        <p:nvSpPr>
          <p:cNvPr id="27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3" name=""/>
          <p:cNvSpPr/>
          <p:nvPr/>
        </p:nvSpPr>
        <p:spPr>
          <a:xfrm>
            <a:off x="533520" y="274644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bolism increases during growth spurts requiring adjustments in calories and insul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risk of hypoglycemic events during growth periods, especially pu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6" name=""/>
          <p:cNvSpPr/>
          <p:nvPr/>
        </p:nvSpPr>
        <p:spPr>
          <a:xfrm>
            <a:off x="533520" y="274644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all basic FDA and Food Pyramid guideli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 individual needs (health, activity, food habi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 and maintain a consistent level of insulin and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 healthy diet is a diet that contains optimal amounts of macro and micronutrients, is low in food choices known to be detrimental, and provides consistent release of glucose throughout the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9" name=""/>
          <p:cNvSpPr/>
          <p:nvPr/>
        </p:nvSpPr>
        <p:spPr>
          <a:xfrm>
            <a:off x="533520" y="2746440"/>
            <a:ext cx="8305560" cy="32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iet is the keystone of care for ALL types of diabetes (Type 1, Type 2, gestational, etc.)</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 Count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Exchange 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2" name=""/>
          <p:cNvSpPr/>
          <p:nvPr/>
        </p:nvSpPr>
        <p:spPr>
          <a:xfrm>
            <a:off x="533520" y="2209680"/>
            <a:ext cx="8305560" cy="423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ound Diet Therap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h in complex carbohydrates and dietary fib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in simple sugars, fats (especially saturated), cholesterol, and sal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 prote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s should be fairly evenly distributed throughout the day</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 meal snacks are essential to maintaining stable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always be readily available in event of a hypoglycemic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3"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5" name=""/>
          <p:cNvSpPr/>
          <p:nvPr/>
        </p:nvSpPr>
        <p:spPr>
          <a:xfrm>
            <a:off x="533520" y="2209680"/>
            <a:ext cx="830556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ypical Diabetic Die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00 calorie ADA di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
          <p:cNvSpPr/>
          <p:nvPr/>
        </p:nvSpPr>
        <p:spPr>
          <a:xfrm>
            <a:off x="825840" y="1295280"/>
            <a:ext cx="7585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 – Is it working?</a:t>
            </a:r>
            <a:endParaRPr b="0" lang="en-US" sz="4000" spc="-1" strike="noStrike">
              <a:solidFill>
                <a:srgbClr val="000000"/>
              </a:solidFill>
              <a:latin typeface="Arial"/>
            </a:endParaRPr>
          </a:p>
        </p:txBody>
      </p:sp>
      <p:sp>
        <p:nvSpPr>
          <p:cNvPr id="28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8" name=""/>
          <p:cNvSpPr/>
          <p:nvPr/>
        </p:nvSpPr>
        <p:spPr>
          <a:xfrm>
            <a:off x="533520" y="2209680"/>
            <a:ext cx="8305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Lab Values Reflecting Diabetic Contro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Glucose levels</a:t>
            </a:r>
            <a:endParaRPr b="1" lang="en-US" sz="2800" spc="-1" strike="noStrike">
              <a:solidFill>
                <a:srgbClr val="333399"/>
              </a:solidFill>
              <a:latin typeface="Verdana"/>
            </a:endParaRPr>
          </a:p>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Carbohydrate and Insulin Functions</a:t>
            </a:r>
            <a:endParaRPr b="1" lang="en-US" sz="2800" spc="-1" strike="noStrike">
              <a:solidFill>
                <a:srgbClr val="333399"/>
              </a:solidFill>
              <a:latin typeface="Verdan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asting Bloo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gar (</a:t>
            </a:r>
            <a:r>
              <a:rPr b="0" lang="en-US" sz="2000" spc="-1" strike="noStrike">
                <a:solidFill>
                  <a:srgbClr val="333399"/>
                </a:solidFill>
                <a:latin typeface="Verdana"/>
              </a:rPr>
              <a:t>FBS</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Glycosylate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emoglobin (</a:t>
            </a:r>
            <a:r>
              <a:rPr b="0" lang="en-US" sz="2000" spc="-1" strike="noStrike">
                <a:solidFill>
                  <a:srgbClr val="333399"/>
                </a:solidFill>
                <a:latin typeface="Verdana"/>
              </a:rPr>
              <a:t>HbA</a:t>
            </a:r>
            <a:r>
              <a:rPr b="0" lang="en-US" sz="2000" spc="-1" strike="noStrike" baseline="-25000">
                <a:solidFill>
                  <a:srgbClr val="333399"/>
                </a:solidFill>
                <a:latin typeface="Verdana"/>
              </a:rPr>
              <a:t>1</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2"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oglycemia (De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p:txBody>
      </p:sp>
      <p:pic>
        <p:nvPicPr>
          <p:cNvPr id="295"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5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6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8"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HbA</a:t>
            </a:r>
            <a:r>
              <a:rPr b="0" lang="en-US" sz="2400" spc="-1" strike="noStrike" baseline="-25000">
                <a:solidFill>
                  <a:srgbClr val="333399"/>
                </a:solidFill>
                <a:latin typeface="Verdana"/>
              </a:rPr>
              <a:t>1</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Long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301" name="" descr=""/>
          <p:cNvPicPr/>
          <p:nvPr/>
        </p:nvPicPr>
        <p:blipFill>
          <a:blip r:embed="rId1"/>
          <a:stretch/>
        </p:blipFill>
        <p:spPr>
          <a:xfrm>
            <a:off x="396252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
          <p:cNvSpPr/>
          <p:nvPr/>
        </p:nvSpPr>
        <p:spPr>
          <a:xfrm>
            <a:off x="1460880" y="1295280"/>
            <a:ext cx="6287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he Well Educated Diabetic</a:t>
            </a:r>
            <a:endParaRPr b="0" lang="en-US" sz="4000" spc="-1" strike="noStrike">
              <a:solidFill>
                <a:srgbClr val="000000"/>
              </a:solidFill>
              <a:latin typeface="Arial"/>
            </a:endParaRPr>
          </a:p>
        </p:txBody>
      </p:sp>
      <p:sp>
        <p:nvSpPr>
          <p:cNvPr id="30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304" name="" descr=""/>
          <p:cNvPicPr/>
          <p:nvPr/>
        </p:nvPicPr>
        <p:blipFill>
          <a:blip r:embed="rId1"/>
          <a:stretch/>
        </p:blipFill>
        <p:spPr>
          <a:xfrm>
            <a:off x="2543040" y="1981080"/>
            <a:ext cx="41626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3" name=""/>
          <p:cNvGrpSpPr/>
          <p:nvPr/>
        </p:nvGrpSpPr>
        <p:grpSpPr>
          <a:xfrm>
            <a:off x="419040" y="2544840"/>
            <a:ext cx="8267760" cy="3322080"/>
            <a:chOff x="419040" y="2544840"/>
            <a:chExt cx="8267760" cy="3322080"/>
          </a:xfrm>
        </p:grpSpPr>
        <p:sp>
          <p:nvSpPr>
            <p:cNvPr id="6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sing Energy</a:t>
            </a:r>
            <a:endParaRPr b="1" lang="en-US" sz="4400" spc="-1" strike="noStrike">
              <a:solidFill>
                <a:srgbClr val="333399"/>
              </a:solidFill>
              <a:latin typeface="Verdana"/>
            </a:endParaRPr>
          </a:p>
        </p:txBody>
      </p:sp>
      <p:sp>
        <p:nvSpPr>
          <p:cNvPr id="8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pic>
        <p:nvPicPr>
          <p:cNvPr id="88" name="" descr=""/>
          <p:cNvPicPr/>
          <p:nvPr/>
        </p:nvPicPr>
        <p:blipFill>
          <a:blip r:embed="rId1"/>
          <a:stretch/>
        </p:blipFill>
        <p:spPr>
          <a:xfrm>
            <a:off x="257040" y="2209680"/>
            <a:ext cx="8734680" cy="45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90" name=""/>
          <p:cNvSpPr/>
          <p:nvPr/>
        </p:nvSpPr>
        <p:spPr>
          <a:xfrm>
            <a:off x="4114440" y="33116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make Glycogen</a:t>
            </a:r>
            <a:endParaRPr b="0" lang="en-US" sz="1800" spc="-1" strike="noStrike">
              <a:solidFill>
                <a:srgbClr val="000000"/>
              </a:solidFill>
              <a:latin typeface="Arial"/>
            </a:endParaRPr>
          </a:p>
        </p:txBody>
      </p:sp>
      <p:sp>
        <p:nvSpPr>
          <p:cNvPr id="9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9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sp>
        <p:nvSpPr>
          <p:cNvPr id="9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914400" y="2343240"/>
            <a:ext cx="2838600" cy="2171520"/>
          </a:xfrm>
          <a:prstGeom prst="rect">
            <a:avLst/>
          </a:prstGeom>
          <a:ln w="0">
            <a:noFill/>
          </a:ln>
        </p:spPr>
      </p:pic>
      <p:grpSp>
        <p:nvGrpSpPr>
          <p:cNvPr id="95" name=""/>
          <p:cNvGrpSpPr/>
          <p:nvPr/>
        </p:nvGrpSpPr>
        <p:grpSpPr>
          <a:xfrm>
            <a:off x="5181480" y="5048280"/>
            <a:ext cx="2781000" cy="895320"/>
            <a:chOff x="5181480" y="5048280"/>
            <a:chExt cx="2781000" cy="895320"/>
          </a:xfrm>
        </p:grpSpPr>
        <p:sp>
          <p:nvSpPr>
            <p:cNvPr id="96"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28080" y="51195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su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41320" y="1523880"/>
            <a:ext cx="2968560" cy="3229200"/>
          </a:xfrm>
          <a:prstGeom prst="rect">
            <a:avLst/>
          </a:prstGeom>
          <a:ln w="0">
            <a:noFill/>
          </a:ln>
        </p:spPr>
      </p:pic>
      <p:grpSp>
        <p:nvGrpSpPr>
          <p:cNvPr id="134" name=""/>
          <p:cNvGrpSpPr/>
          <p:nvPr/>
        </p:nvGrpSpPr>
        <p:grpSpPr>
          <a:xfrm>
            <a:off x="495360" y="5048280"/>
            <a:ext cx="2781000" cy="895320"/>
            <a:chOff x="495360" y="5048280"/>
            <a:chExt cx="2781000" cy="895320"/>
          </a:xfrm>
        </p:grpSpPr>
        <p:sp>
          <p:nvSpPr>
            <p:cNvPr id="13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638680" y="4800600"/>
            <a:ext cx="2273400" cy="1371600"/>
            <a:chOff x="5638680" y="4800600"/>
            <a:chExt cx="2273400" cy="1371600"/>
          </a:xfrm>
        </p:grpSpPr>
        <p:sp>
          <p:nvSpPr>
            <p:cNvPr id="15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7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17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1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17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43800" y="4724280"/>
            <a:ext cx="1371600" cy="1371600"/>
          </a:xfrm>
          <a:prstGeom prst="rect">
            <a:avLst/>
          </a:prstGeom>
          <a:ln w="0">
            <a:noFill/>
          </a:ln>
        </p:spPr>
      </p:pic>
      <p:sp>
        <p:nvSpPr>
          <p:cNvPr id="1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80"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181"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182"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94"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5"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9"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203"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4"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5"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23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Normal</a:t>
            </a:r>
            <a:br>
              <a:rPr sz="4400"/>
            </a:br>
            <a:r>
              <a:rPr b="1" lang="en-US" sz="4400" spc="-1" strike="noStrike">
                <a:solidFill>
                  <a:srgbClr val="333399"/>
                </a:solidFill>
                <a:latin typeface="Verdana"/>
              </a:rPr>
              <a:t>Carbohydrate</a:t>
            </a:r>
            <a:br>
              <a:rPr sz="4400"/>
            </a:br>
            <a:r>
              <a:rPr b="1" lang="en-US" sz="4400" spc="-1" strike="noStrike">
                <a:solidFill>
                  <a:srgbClr val="333399"/>
                </a:solidFill>
                <a:latin typeface="Verdana"/>
              </a:rPr>
              <a:t>Metabolism</a:t>
            </a:r>
            <a:endParaRPr b="1" lang="en-US" sz="4400" spc="-1" strike="noStrike">
              <a:solidFill>
                <a:srgbClr val="333399"/>
              </a:solidFill>
              <a:latin typeface="Verdana"/>
            </a:endParaRPr>
          </a:p>
        </p:txBody>
      </p:sp>
      <p:sp>
        <p:nvSpPr>
          <p:cNvPr id="208" name=""/>
          <p:cNvSpPr/>
          <p:nvPr/>
        </p:nvSpPr>
        <p:spPr>
          <a:xfrm>
            <a:off x="3060360" y="2968560"/>
            <a:ext cx="3032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o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ag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omatostat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10-05-27T02:35:26Z</dcterms:modified>
  <cp:revision>49</cp:revision>
  <dc:subject>Review of Digestion</dc:subject>
  <dc:title>BP Nutrition Unit II Digestion Overview</dc:title>
</cp:coreProperties>
</file>