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03D-F857-4DFD-A98D-C64B7351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26B-C14B-472B-9676-E64073FF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F76-DE77-4A7B-A052-EA750E45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F29-D5DE-456A-BF5F-540EE000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583-C10F-4C46-8B97-1C2548D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E76-014F-4DFD-9244-3A45891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C69-0418-4491-A7D0-036B212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BE1-A783-4589-9630-851A34C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518-215B-4E6F-BAE6-FD22E303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49C-480F-4144-A23B-230C589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CA9-4804-4285-804D-EC09B12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04B-F6DC-41F9-BA15-3D25E3D2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9FA-61E1-41ED-B597-08EA8D8E1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Nutritional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4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Lab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714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sma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57840" y="2438280"/>
            <a:ext cx="3143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atoc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ron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pacity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B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IB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l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Over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dium (Na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tassium (K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loride (Cl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yroid regulates metabo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yroid studie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tassium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79560"/>
            <a:ext cx="3444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o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egular Heart B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 cr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ominal cramping, diarr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3360" y="2774880"/>
            <a:ext cx="3444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er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ac Stand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, flaccid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usea,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 flipH="1">
            <a:off x="607680" y="2895480"/>
            <a:ext cx="2160" cy="190584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Straight Arrow Connector 15"/>
          <p:cNvCxnSpPr/>
          <p:nvPr/>
        </p:nvCxnSpPr>
        <p:spPr>
          <a:xfrm flipV="1">
            <a:off x="4952520" y="2818800"/>
            <a:ext cx="1080" cy="190548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hyroidism (De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thyroidism (In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ucose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bohydrate and Insulin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asting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ga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lycosy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glycemia (De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b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ng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21:08Z</dcterms:created>
  <dc:creator> </dc:creator>
  <dc:description/>
  <dc:language>en-US</dc:language>
  <cp:lastModifiedBy> </cp:lastModifiedBy>
  <dcterms:modified xsi:type="dcterms:W3CDTF">2010-03-06T18:41:19Z</dcterms:modified>
  <cp:revision>7</cp:revision>
  <dc:subject/>
  <dc:title>Assessing Nutritional Status</dc:title>
</cp:coreProperties>
</file>