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D98-1DD1-47D0-8B93-5EFC02B7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29F-DE40-4839-BE2F-6668350A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EFB-E327-433C-B1C3-63208868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610-E4DC-4390-AD01-15028CCC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5EE-3E4B-453E-88D1-A3D4DD99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F48-8B92-4A66-A22F-2DE85454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DE2-ADEF-4BDA-B6BE-CEDCDF71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974-6CF7-498E-98A5-816FBF3E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B7F-9B8A-44BD-AB7B-E9EBB6DA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72D-A303-466A-91C8-24B23AC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DD4-75A8-4790-9D9B-2353EEBD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9B8-433A-40EE-911B-01E6E1A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F5E6-D8A0-416D-9BB5-DC2F03F4C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Nutritional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4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on Lab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pid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lesterol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2714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sma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i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57840" y="2438280"/>
            <a:ext cx="31431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atoc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ron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pacity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BC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g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IBC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67280" y="2460600"/>
            <a:ext cx="45432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De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g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067280" y="2460600"/>
            <a:ext cx="45432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l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De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Over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Electrol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dium (Na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otassium (K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loride (Cl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hyroid regulates metabo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yroid studies incl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Electrol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tassium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779560"/>
            <a:ext cx="3444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poka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egular Heart B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 cr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GI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ominal cramping, diarr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3360" y="2774880"/>
            <a:ext cx="3444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perka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iac Standst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, flaccid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GI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usea, con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 flipH="1">
            <a:off x="607680" y="2895480"/>
            <a:ext cx="2160" cy="1905840"/>
          </a:xfrm>
          <a:prstGeom prst="straightConnector1">
            <a:avLst/>
          </a:prstGeom>
          <a:ln w="475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3" name="Straight Arrow Connector 15"/>
          <p:cNvCxnSpPr/>
          <p:nvPr/>
        </p:nvCxnSpPr>
        <p:spPr>
          <a:xfrm flipV="1">
            <a:off x="4952520" y="2818800"/>
            <a:ext cx="1080" cy="1905480"/>
          </a:xfrm>
          <a:prstGeom prst="straightConnector1">
            <a:avLst/>
          </a:prstGeom>
          <a:ln w="4752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hyroidism (Decreased BM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745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thyroidism (Increased BM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745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ucose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bohydrate and Insulin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asting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ugar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BS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lycosy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oglobin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glycemia (De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hort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glycemia (In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hort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glycemia (In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b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ng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pid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lesterol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5:21:08Z</dcterms:created>
  <dc:creator> </dc:creator>
  <dc:description/>
  <dc:language>en-US</dc:language>
  <cp:lastModifiedBy> </cp:lastModifiedBy>
  <dcterms:modified xsi:type="dcterms:W3CDTF">2010-03-06T18:41:19Z</dcterms:modified>
  <cp:revision>7</cp:revision>
  <dc:subject/>
  <dc:title>Assessing Nutritional Status</dc:title>
</cp:coreProperties>
</file>