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DCB-942C-4BF9-B0EB-0E46C9B2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438-0228-42D4-A4FD-5B382103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C3E-8989-4F78-88FB-098DA3A5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395-BCB7-48DB-BCB8-59A19185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53C-55D0-4FCC-84F2-E0110111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B02-D114-426B-9B3B-24F324F9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861-0527-4E67-8AAA-B9D1F7DC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967-5829-4B13-908E-6F030D1C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52C-A5CE-43BC-81E2-1A28D1E4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D2E-C0E4-424B-954B-0745FE8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962-FA16-4F55-AAF1-7DDA503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4B8-3C10-44B2-B0D8-147E8791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FFE9-D57E-4A1D-B956-C91AD2E85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Nutritional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4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on Lab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pid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lesterol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riglyce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2714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e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sma 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i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e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57840" y="2438280"/>
            <a:ext cx="31431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Deficiency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atoc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ron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pacity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BC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Deficiency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g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IBC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67280" y="2460600"/>
            <a:ext cx="45432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Anemia / Flu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De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g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067280" y="2460600"/>
            <a:ext cx="45432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ectrol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De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Flui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 (Overhyd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in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Electrol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dium (Na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otassium (K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hloride (Cl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hyroid regulates metabo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yroid studies incl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Electrol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tassium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779560"/>
            <a:ext cx="34448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poka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Hear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egular Heart B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 cr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GI mo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ominal cramping, diarr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3360" y="2774880"/>
            <a:ext cx="3444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perka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Hear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iac Standst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, flaccid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GI mo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usea, const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 flipH="1">
            <a:off x="607680" y="2895480"/>
            <a:ext cx="2160" cy="1905840"/>
          </a:xfrm>
          <a:prstGeom prst="straightConnector1">
            <a:avLst/>
          </a:prstGeom>
          <a:ln w="475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3" name="Straight Arrow Connector 15"/>
          <p:cNvCxnSpPr/>
          <p:nvPr/>
        </p:nvCxnSpPr>
        <p:spPr>
          <a:xfrm flipV="1">
            <a:off x="4952520" y="2818800"/>
            <a:ext cx="1080" cy="1905480"/>
          </a:xfrm>
          <a:prstGeom prst="straightConnector1">
            <a:avLst/>
          </a:prstGeom>
          <a:ln w="4752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hyroidism (Decreased BM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3745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thyroidism (Increased BM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3745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ucose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bohydrate and Insulin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asting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ugar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BS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lycosy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emoglobin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glycemia (De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hort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glycemia (In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hort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erglycemia (Increased Gluco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b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ng Te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pid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lesterol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riglyce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otal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70600" y="3084480"/>
            <a:ext cx="30826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5:21:08Z</dcterms:created>
  <dc:creator> </dc:creator>
  <dc:description/>
  <dc:language>en-US</dc:language>
  <cp:lastModifiedBy> </cp:lastModifiedBy>
  <dcterms:modified xsi:type="dcterms:W3CDTF">2010-03-06T18:41:19Z</dcterms:modified>
  <cp:revision>7</cp:revision>
  <dc:subject/>
  <dc:title>Assessing Nutritional Status</dc:title>
</cp:coreProperties>
</file>