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4AE-D9EC-41D3-A9C2-076068FD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24D-67ED-4E1D-98BF-C0821FFA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C50E-9158-4F16-9D7C-AE036D7D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013E-52E0-42FD-A53A-29EB9552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B06E-1E07-457E-BAF5-FE0EC51B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588-C75B-44A4-87CE-6D56AC23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5B19-0AE4-4EBE-8ABE-9CDA85A9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C122-6A84-4B44-A841-1A6E5DEF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2F12-532F-47F1-BA4E-5D8255EA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3221-47CA-4E72-BCA9-9C54E12C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A230-2844-4E63-94CE-A56D7424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147-1FA3-4A28-BF23-801DC733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C095-4813-487F-AF0F-CDC5AB649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Nutritional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64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on Lab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pid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lesterol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riglycer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otal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27147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bum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re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otal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sma Prote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ein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re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otal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857840" y="2438280"/>
            <a:ext cx="31431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Anemia / Flu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on Deficiency A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hyd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ematocr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emogl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ron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apacity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BC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Anemia / Flu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on Deficiency A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g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IBC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67280" y="2460600"/>
            <a:ext cx="45432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Anemia / Flu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uid Balance (Dehydra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g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067280" y="2460600"/>
            <a:ext cx="45432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Fluid 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uid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lyt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B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ati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ectrol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Fluid 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uid Balance (Dehydra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B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atin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3810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Fluid 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uid Balance (Overhydra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B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atin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Electroly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uid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lyt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odium (Na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otassium (K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hloride (Cl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Meta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hyroid regulates metabo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yroid studies incl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Electroly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otassium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779560"/>
            <a:ext cx="34448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s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ypokal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Hear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regular Heart B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 cra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GI mo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dominal cramping, diarrh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13360" y="2774880"/>
            <a:ext cx="34448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s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yperkal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ased Hear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diac Standst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k, flaccid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ased GI mo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usea, const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2"/>
          <p:cNvCxnSpPr/>
          <p:nvPr/>
        </p:nvCxnSpPr>
        <p:spPr>
          <a:xfrm flipH="1">
            <a:off x="607680" y="2895480"/>
            <a:ext cx="2160" cy="1905840"/>
          </a:xfrm>
          <a:prstGeom prst="straightConnector1">
            <a:avLst/>
          </a:prstGeom>
          <a:ln w="475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03" name="Straight Arrow Connector 15"/>
          <p:cNvCxnSpPr/>
          <p:nvPr/>
        </p:nvCxnSpPr>
        <p:spPr>
          <a:xfrm flipV="1">
            <a:off x="4952520" y="2818800"/>
            <a:ext cx="1080" cy="1905480"/>
          </a:xfrm>
          <a:prstGeom prst="straightConnector1">
            <a:avLst/>
          </a:prstGeom>
          <a:ln w="4752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Meta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othyroidism (Decreased BM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81280" y="2362320"/>
            <a:ext cx="3745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Meta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erthyroidism (Increased BM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81280" y="2362320"/>
            <a:ext cx="3745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ucose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rbohydrate and Insulin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asting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ugar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BS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Glycosy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emoglobin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oglycemia (Decreased Gluco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hort Te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erglycemia (Increased Gluco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hort Te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erglycemia (Increased Gluco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b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ong Te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pid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lesterol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riglycer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otal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5:21:08Z</dcterms:created>
  <dc:creator> </dc:creator>
  <dc:description/>
  <dc:language>en-US</dc:language>
  <cp:lastModifiedBy> </cp:lastModifiedBy>
  <dcterms:modified xsi:type="dcterms:W3CDTF">2010-03-06T18:41:19Z</dcterms:modified>
  <cp:revision>7</cp:revision>
  <dc:subject/>
  <dc:title>Assessing Nutritional Status</dc:title>
</cp:coreProperties>
</file>