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50A4-88B9-477C-B76D-651D78DBE2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is our fuel source.  Non-nutrients are those food substances that do not contribute to energy.  This is not to say that non-nutrients are bad.  Some, like fiber, are quite good for you.  Artificial sweeteners may be good for you, but at least aren’t particularly harmful.  Nicotine is always bad for you.  Caffeine and alcohol, except in moderation, are probably bad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3121-8789-4892-89BB-F13D13D3E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enda is 600 times sweeter than sucrose.  Sucralose is the chemical found in Splenda.  Sucralose is actually altered sugar.  3 carbon atoms of the sucrose molecule are replaced with 3 chloride atoms.  This alteration prevents the molecule from being metabolized for energy, so there are no calories.  Although sucralose appears to be relatively safe, there are some concerns about chlorine toxicity.  Thus far, there have been no scientific studies proving or disproving chlorine toxicity and claims of toxicity seem to be vague and dedicated to the sale of othe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4257-6A9D-4772-8A40-0177D04E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artame, the non-nutritive sweetener found in Equal, was discovered by accident.  It is made of two amino acids (aspartic acid and phenylalanine) and methanol.  Methanol is the chemical name for wood alcohol.  Aspartic acid and phenylalanine both play important roles in neurotransmitters of the brain.  There are numerous reports of the dangers of aspartame throughout the internet, though it’s doubtful these reports are based upon scientific research.  What is absolutely true, though, is the dangers of persons suffering from phenylketonuria (PKU) using aspartame, as it could cause brain damage or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KU (phenylketonuria) is a genetic disease where those afflicted are born without the ability to metabolize the amino acid phenylalanine.  Phenylalanine then builds up in the blood to toxic levels, causing mental retardation and eventually deat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a was discovered when someone noticed that there were far too many blonde, blue-eyed children, born of normal intelligence and becoming mentally retardation.  Especially since many of these blonde, blue-eyed babies were born into darkhaired, darkeyed families.  Scientists discovered that giving a low phenylalanine diet would prevent further mental retardation.  It also turns out that phenylalanine plays a role in pigmentation, so not being able to metabolize phenylalanine resulted in light haired, light skinned bodies.  The body does try to rid the excess phenylalanine in the urine, resulting in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all newborns are tested for this genetic, metabolic disease by testing the urine.  A strip is placed in the baby’s diaper to absorb the urine and then the urine is tested for phenylketonur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enylketonurics must be very careful when choosing any food containing non-nutritive sweeteners, as aspartame is found in diet colas, diet cookies, and many other diet produ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9611-CB48-4ADC-ABB9-5F0DB30D4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comes from the leaves of the sweet leaf plant, native to South America.  The sweet leaf plant is in the same family as Chrysanthemums and Sunf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as a sweetner in Japan, but has not yet received FDA approval for its use as a sweetener in the United State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BBF4-C742-41AD-B79E-4C8AF99AB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ia is widely used in Japan, but is banned as a non-nutritive sweetener in the United States and Canada.  There are concerns about stevia’s effect on carbohydrate metabolism, especially with children.  There haven’t been any real concerns in Japan and other countries, but the FDA says that’s because people in other countries only consume a fraction of the diet foods that Americans do.  The FDA says tests need to be done to see the effects of large consumption of stevia before they’ll give approval.  Some say the FDA is being paid to keep stevia off the market.  This is America.  There’s a conspiracy theory for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DA, however, has very little control over products identified as dietary supp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A57D-BD41-45E4-83D5-96D05F66B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Zevia a diet cola or is it a dietary supplement?  Read the label.  Notice how similar the label is to the Nutrition Facts Label, yet it doesn’t say ‘Nutrition Facts’, it says ‘Supplement Facts.’  And it doesn’t have the same required nutritional contents.  See anything there about fiber? Calcium?  Protein?  Fats?  Read the label with ZERO.  Notice how cleverly Zevia tells you there are no calories, no carbs, no fat, by telling you it can’t do so.  Other ingredients: everything other than the ‘triple filtered carbonated water’ is prefaced by ‘natural.’  Clever marketing.  Maybe it’s all true, but it’s still very clever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hear a lot about stevia within the next year or two, especially from Coca Cola and Pep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303F-DAA1-4A7F-B6D4-44F3D918A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e dangers of smoking and I’m not going to list all those dangers here.  The 3 major dangers are (1) causes vasoconstriction which increases blood pressure, (2) interferes with absorption of Vitamin C by as much as 2/3, and (3) is a known carcin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smoke should definitely take Vitamin C supplements.  Pregnant women who smoke have low birth weight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7C0F-12D1-4AA8-95B9-1338D08F8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addicted to coffee and caffeine.  Caffeine is the most common CNS stimulant.  Caffeine increases heart rate and may act as a diuretic, flushing out water soluble vitamins and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E196-82D4-4575-B022-613C04C36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wish to decrease coffee / caffeine intake may experience withdrawal such as headaches and irri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C9BF-DBC0-4DF8-827A-FDE97503B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ctually does provide kilocalories, 7 kilocalories per gram.  Why don’t we consider alcohol a macronutrient, then, like we do carbohydrates, fats, and proteins?  Simply because the detriments of alcohol far outweigh the fuel factor.  Alcohol provides empty calories, no vitamins, minerals, fiber, amino acids, etc. that benefit the body.  Alcohol slows metabolism, leading to weight gain.  Alcohol is toxic to the liver and brain.  And alcohol interferes with the absorption and metabolism of B-complex vita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 during pregnancy may lead to Fetal alcohol syndrome, the baby being born with distinct facial markings and mental retar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BE0A-DF77-48BA-BEF0-7E0E93BCF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move on now to the Micronutrients: Vitamins and Minerals.  Micronutrients do not provide energy like the macronutrients, but they are just as essential to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61CB-9DAF-4B37-AE66-3AE0FA836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fiber.  We talked a lot about fiber earlier in the course.  Fiber is a polysaccharide, so that makes it a carbohydrate.  Fiber comes from plants.  Fiber gives structure to plants.  Fiber is indigestible, but still has many important health benefits.  Fiber is classified as either soluble or insoluble.  Solubility is defined as the fiber’s ability to dissolve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E6F8-E1F3-440B-A67A-4EBC13683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le fiber dissolves in water.  It slows the emptying of the stomach, giving that feeling of ‘fullness’ for a longer length of time.  This helps diet control as it helps to curb hunger.  Soluble fiber also delays the absorption of glucose, preventing sudden spikes in blood sugar after a meal.  Diabetics, especially Type II diabetics, benefit from this stabilizing of glucose effect.  Dietary cholesterol binds to cholesterol, thus the cholesterol doesn’t become absorbed, and serum cholesterol levels may be re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sources of soluble fiber are oats and fresh f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15FF-5DC7-42C5-8013-BB5AEEB3A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ource of insoluble fiber is whole wheat.  Whole wheat speeds the transit of digested food (chyme) through the intestines.  As the solid waste hastens through, there is less chance for the body to reabsorb water, thus the stool doesn’t harden, decreasing the risk for constipation.  Insoluble fiber is thought to reduce the risk for diverticulosis and also some cancers, particularly colon cancer and breast 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C388-9969-4E43-BC51-BDAB402EA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don’t have enough fiber in their diets are at risk for constipation, colon cancer, and diverticulosis.  But it is possible to have too much fiber.  A diet exceedingly high in fiber may cause bloating, abdominal cramping, and diarrh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most Americans eat too little and not too much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6EA2-F027-415D-92DB-A5CC7B908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ommended daily intake of fiber is 14 grams of fiber for every 1000 kilocalories per day.  This approximates to 25 grams to 35 grams p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don’t each enough fiber.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ways to increase daily fi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4714-E94B-4730-A93B-D68E7A97B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icial sweeteners are not necessarily bad for you.  In fact, for diabetics and people who are trying to control their weight, artificial sweeteners can be quite good for you.  The FDA recognizes two types of artificial sweeteners.  One type is the low calories sweeteners, which is actually derived from sucrose, so it does provide some calories.  The other three are non-nutritive chemicals that provide no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000F-BF05-4085-91AA-E21AEFBA4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lcohols are simple sugars that have been chemically altered to contain a hydroxy group.  A hydroxy group is a single oxygen-hydrogen molecule.  Sugar alcohols contain fewer calories than simple sugars, usually 2 to 3 calories per gram rather than 4 calories per gram.  Bacteria can’t use sugar alcohols for fuel, so sugar alcohols do not promote tooth decay.  A side effect of sugar alcohols is diarrhea.  Some laxatives are actually sugar alcohols.  Sorbitol is an example of a sugar alcohol used for its laxativ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690B-C7B4-49C7-9478-336B977E0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charin was the first artificial sweetener.  Early studies linking saccharin to cancer in lab rats were discounted and no such link has been found in saccharin and humans.  Saccharin is 300 times sweeter than sucrose and is the chemical found in Sweet ‘n’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8216-49FF-4566-B72F-2DC3B255F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4DFA6-2950-4700-9F6E-0FA3E6FD8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503C-22DB-473E-A7C9-41CBDB59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DDCF-6B45-439F-A76B-CAB534FCC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1B975-2205-4D62-946F-183CED9B5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F7E0C5-E115-4D9F-9796-41F82F184F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4842C-CEBE-49FB-8AAD-54CCBF6DF2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3853E-7BC9-4567-AA64-11E57D1665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CF290-637C-4999-9C3F-218490819B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AE34E-9640-4370-AA55-ED776E52FD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B1F4B-B26E-48E2-86E8-B86D9D51B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F564B-A0ED-42F0-B53F-91BEC01D69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DD9CD-BBD3-41B7-9F94-13DE499E2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A4584-8301-48DF-9654-B5887E89B8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F5B35-C7E5-4817-9A4F-C2CAC4989E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359BF-965B-4DCF-B2D4-EFDFD3B48C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DF223D-79B0-46CF-8727-0DA304A6A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CCE7BE-10F9-483B-9A88-0D19ACC80D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4FFC49-22F7-42D1-886C-90169593DC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FAB0D1-22A6-4EB8-B073-0B657D1876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FEDB77-3DC7-4B22-89F0-B5DD7949A8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DC2EEF-E889-45D0-8FC4-3E20DB3841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3D2684-6AEA-497E-84A4-3A10D35E68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B062A-67A7-4E24-A26A-7AB4EC0E1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5E9D06-1187-4D34-9780-5F2A53697A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2D84F7-61B0-4207-98C0-B0D3530D47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C351F9-859D-4453-99A9-2CA148039A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87CF92-40EE-42D4-BBF1-54D2E9E584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4BF99D-0544-4334-AB13-78F022D7C1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78E01C-6A16-4BA2-9D66-A5A76DC5344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C1E896-1962-478D-86A6-851B24A8B6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A6913-4718-4E81-B5F0-4ADC067E8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02D9-C94C-432F-AE41-A31F25F6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B55C-76F3-496F-A8CA-C1B478475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1AC3-6635-499F-A8FA-ACC0AA18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867B-74F4-4A95-9D0E-5C0A0739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40BF-91C8-4238-8AB8-0132E902D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Verdana"/>
              </a:rPr>
              <a:t>&lt;date/time&gt;</a:t>
            </a:r>
            <a:r>
              <a:rPr b="0" lang="en-US" sz="1200" spc="-1" strike="noStrike">
                <a:solidFill>
                  <a:srgbClr val="898989"/>
                </a:solidFill>
                <a:latin typeface="Verdana"/>
              </a:rPr>
              <a:t> </a:t>
            </a:r>
            <a:fld id="{66191B95-9B5A-4FF5-87F9-EEE0F8980881}" type="datetime12">
              <a:rPr b="0" lang="en-US" sz="1200" spc="-1" strike="noStrike">
                <a:solidFill>
                  <a:srgbClr val="898989"/>
                </a:solidFill>
                <a:latin typeface="Verdana"/>
              </a:rPr>
              <a:t>02:01 A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4D57-6DA9-4E2C-97E4-A2C28D61892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Date Placeholder 3"/>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EEE5-0FDC-4F24-A84C-8CA6BE0DF476}" type="datetime12">
              <a:rPr b="0" lang="en-US" sz="1200" spc="-1" strike="noStrike">
                <a:solidFill>
                  <a:srgbClr val="898989"/>
                </a:solidFill>
                <a:latin typeface="Verdana"/>
              </a:rPr>
              <a:t>02:01 AM</a:t>
            </a:fld>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456840" y="63399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6742-4790-4D8C-A43C-E221D40242F5}"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4"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b05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lt;date/time&gt;</a:t>
            </a:r>
            <a:r>
              <a:rPr b="1" lang="en-US" sz="1200" spc="-1" strike="noStrike">
                <a:solidFill>
                  <a:srgbClr val="00b050"/>
                </a:solidFill>
                <a:latin typeface="Verdana"/>
              </a:rPr>
              <a:t> </a:t>
            </a:r>
            <a:fld id="{8B4E17F5-70FE-4553-927A-A23728876288}" type="datetime12">
              <a:rPr b="1" lang="en-US" sz="1200" spc="-1" strike="noStrike">
                <a:solidFill>
                  <a:srgbClr val="00b050"/>
                </a:solidFill>
                <a:latin typeface="Verdana"/>
              </a:rPr>
              <a:t>02:01 AM</a:t>
            </a:fld>
            <a:endParaRPr b="0" lang="en-US" sz="1200" spc="-1" strike="noStrike">
              <a:solidFill>
                <a:srgbClr val="000000"/>
              </a:solidFill>
              <a:latin typeface="Times New Roman"/>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1D7F-5EFE-49EA-8511-045B8BA48DBF}" type="slidenum">
              <a:rPr b="0" lang="en-US"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on-Nutrients</a:t>
            </a:r>
            <a:endParaRPr b="0" lang="en-US" sz="4400" spc="-1" strike="noStrike">
              <a:solidFill>
                <a:srgbClr val="000000"/>
              </a:solidFill>
              <a:latin typeface="Verdana"/>
            </a:endParaRPr>
          </a:p>
        </p:txBody>
      </p:sp>
      <p:sp>
        <p:nvSpPr>
          <p:cNvPr id="131"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rPr>
              <a:t>Fiber, Sweeteners, Nicotine, Caffeine, and Alcohol</a:t>
            </a:r>
            <a:endParaRPr b="0" lang="en-US" sz="3200" spc="-1" strike="noStrike">
              <a:solidFill>
                <a:srgbClr val="000000"/>
              </a:solidFill>
              <a:latin typeface="Verdana"/>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5575-F486-435E-9135-2656A1404CDA}" type="datetime12">
              <a:rPr b="0" lang="en-US" sz="1200" spc="-1" strike="noStrike">
                <a:solidFill>
                  <a:srgbClr val="898989"/>
                </a:solidFill>
                <a:latin typeface="Verdana"/>
              </a:rPr>
              <a:t>02:01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6" name="Picture 6" descr="Splenda1.PNG"/>
          <p:cNvPicPr/>
          <p:nvPr/>
        </p:nvPicPr>
        <p:blipFill>
          <a:blip r:embed="rId1"/>
          <a:stretch/>
        </p:blipFill>
        <p:spPr>
          <a:xfrm rot="19315800">
            <a:off x="848880" y="3992040"/>
            <a:ext cx="2652840" cy="16671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cralose</a:t>
            </a:r>
            <a:endParaRPr b="0" lang="en-US" sz="4400" spc="-1" strike="noStrike">
              <a:solidFill>
                <a:srgbClr val="000000"/>
              </a:solidFill>
              <a:latin typeface="Verdana"/>
            </a:endParaRPr>
          </a:p>
        </p:txBody>
      </p:sp>
      <p:sp>
        <p:nvSpPr>
          <p:cNvPr id="168" name=""/>
          <p:cNvSpPr txBox="1"/>
          <p:nvPr/>
        </p:nvSpPr>
        <p:spPr>
          <a:xfrm>
            <a:off x="456840" y="1600200"/>
            <a:ext cx="47242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plenda</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1D2E-A1E2-41B3-A3DB-FB83600A4562}"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70" name="Picture 8" descr="Splenda2.PNG"/>
          <p:cNvPicPr/>
          <p:nvPr/>
        </p:nvPicPr>
        <p:blipFill>
          <a:blip r:embed="rId2"/>
          <a:stretch/>
        </p:blipFill>
        <p:spPr>
          <a:xfrm>
            <a:off x="5257800" y="1600200"/>
            <a:ext cx="3327480" cy="5105520"/>
          </a:xfrm>
          <a:prstGeom prst="rect">
            <a:avLst/>
          </a:prstGeom>
          <a:ln w="0">
            <a:noFill/>
          </a:ln>
        </p:spPr>
      </p:pic>
      <p:sp>
        <p:nvSpPr>
          <p:cNvPr id="171" name="Oval 9"/>
          <p:cNvSpPr/>
          <p:nvPr/>
        </p:nvSpPr>
        <p:spPr>
          <a:xfrm>
            <a:off x="5562720" y="4419720"/>
            <a:ext cx="2971800" cy="76176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2" name="Picture 11" descr="Equal2"/>
          <p:cNvPicPr/>
          <p:nvPr/>
        </p:nvPicPr>
        <p:blipFill>
          <a:blip r:embed="rId1"/>
          <a:stretch/>
        </p:blipFill>
        <p:spPr>
          <a:xfrm>
            <a:off x="5308560" y="1676520"/>
            <a:ext cx="3301920" cy="4952880"/>
          </a:xfrm>
          <a:prstGeom prst="rect">
            <a:avLst/>
          </a:prstGeom>
          <a:ln w="0">
            <a:noFill/>
          </a:ln>
        </p:spPr>
      </p:pic>
      <p:pic>
        <p:nvPicPr>
          <p:cNvPr id="173" name="Picture 7" descr="Equal2.PNG"/>
          <p:cNvPicPr/>
          <p:nvPr/>
        </p:nvPicPr>
        <p:blipFill>
          <a:blip r:embed="rId2"/>
          <a:stretch/>
        </p:blipFill>
        <p:spPr>
          <a:xfrm>
            <a:off x="5334120" y="1676520"/>
            <a:ext cx="3352680" cy="502920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spartame</a:t>
            </a:r>
            <a:endParaRPr b="0" lang="en-US" sz="4400" spc="-1" strike="noStrike">
              <a:solidFill>
                <a:srgbClr val="000000"/>
              </a:solidFill>
              <a:latin typeface="Verdana"/>
            </a:endParaRPr>
          </a:p>
        </p:txBody>
      </p:sp>
      <p:sp>
        <p:nvSpPr>
          <p:cNvPr id="175" name=""/>
          <p:cNvSpPr txBox="1"/>
          <p:nvPr/>
        </p:nvSpPr>
        <p:spPr>
          <a:xfrm>
            <a:off x="457200" y="1600200"/>
            <a:ext cx="457200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phenylalanin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Equal</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DA1B-6A7F-42DC-8AB1-00D1DF7ECDAE}"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77" name="Picture 9" descr="Equal1.PNG"/>
          <p:cNvPicPr/>
          <p:nvPr/>
        </p:nvPicPr>
        <p:blipFill>
          <a:blip r:embed="rId3"/>
          <a:stretch/>
        </p:blipFill>
        <p:spPr>
          <a:xfrm rot="19210200">
            <a:off x="2477880" y="4352400"/>
            <a:ext cx="2755800" cy="1835280"/>
          </a:xfrm>
          <a:prstGeom prst="rect">
            <a:avLst/>
          </a:prstGeom>
          <a:ln w="0">
            <a:noFill/>
          </a:ln>
        </p:spPr>
      </p:pic>
      <p:sp>
        <p:nvSpPr>
          <p:cNvPr id="178" name="Oval 10"/>
          <p:cNvSpPr/>
          <p:nvPr/>
        </p:nvSpPr>
        <p:spPr>
          <a:xfrm>
            <a:off x="5562720" y="4419720"/>
            <a:ext cx="2819160" cy="457200"/>
          </a:xfrm>
          <a:prstGeom prst="ellipse">
            <a:avLst/>
          </a:prstGeom>
          <a:noFill/>
          <a:ln w="63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5562720" y="4952880"/>
            <a:ext cx="2819160" cy="457200"/>
          </a:xfrm>
          <a:prstGeom prst="ellipse">
            <a:avLst/>
          </a:prstGeom>
          <a:noFill/>
          <a:ln w="63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1" name=""/>
          <p:cNvSpPr txBox="1"/>
          <p:nvPr/>
        </p:nvSpPr>
        <p:spPr>
          <a:xfrm>
            <a:off x="457200" y="1600200"/>
            <a:ext cx="815328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om the Sweet Leaf p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yet approved by FDA as sugar substitu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d as Dietary Supplement</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EB29-0155-4ED2-AA79-1FE40A027F03}"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83" name="Picture 6" descr="Stevia.PNG"/>
          <p:cNvPicPr/>
          <p:nvPr/>
        </p:nvPicPr>
        <p:blipFill>
          <a:blip r:embed="rId1"/>
          <a:stretch/>
        </p:blipFill>
        <p:spPr>
          <a:xfrm>
            <a:off x="5334120" y="3886200"/>
            <a:ext cx="3190680" cy="2666880"/>
          </a:xfrm>
          <a:prstGeom prst="rect">
            <a:avLst/>
          </a:prstGeom>
          <a:ln w="0">
            <a:noFill/>
          </a:ln>
        </p:spPr>
      </p:pic>
      <p:pic>
        <p:nvPicPr>
          <p:cNvPr id="184" name="Picture 7" descr="ZeviaCola1.PNG"/>
          <p:cNvPicPr/>
          <p:nvPr/>
        </p:nvPicPr>
        <p:blipFill>
          <a:blip r:embed="rId2"/>
          <a:stretch/>
        </p:blipFill>
        <p:spPr>
          <a:xfrm>
            <a:off x="1752480" y="434340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tevia</a:t>
            </a:r>
            <a:endParaRPr b="0" lang="en-US" sz="4400" spc="-1" strike="noStrike">
              <a:solidFill>
                <a:srgbClr val="000000"/>
              </a:solidFill>
              <a:latin typeface="Verdana"/>
            </a:endParaRPr>
          </a:p>
        </p:txBody>
      </p:sp>
      <p:sp>
        <p:nvSpPr>
          <p:cNvPr id="186" name=""/>
          <p:cNvSpPr txBox="1"/>
          <p:nvPr/>
        </p:nvSpPr>
        <p:spPr>
          <a:xfrm>
            <a:off x="456840" y="1752480"/>
            <a:ext cx="57913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FDA Approval yet as additiv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Coca Cola (Truvia) and Pepsi (PureVia) hoping to get full FDA approval</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AC5A-E498-47B8-A725-ABD78D479025}"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88" name="Picture 4" descr="FDAApproved.PNG"/>
          <p:cNvPicPr/>
          <p:nvPr/>
        </p:nvPicPr>
        <p:blipFill>
          <a:blip r:embed="rId1"/>
          <a:stretch/>
        </p:blipFill>
        <p:spPr>
          <a:xfrm>
            <a:off x="6276960" y="1695600"/>
            <a:ext cx="2104920" cy="3562200"/>
          </a:xfrm>
          <a:prstGeom prst="rect">
            <a:avLst/>
          </a:prstGeom>
          <a:ln w="0">
            <a:noFill/>
          </a:ln>
        </p:spPr>
      </p:pic>
      <p:sp>
        <p:nvSpPr>
          <p:cNvPr id="189" name="Content Placeholder 2"/>
          <p:cNvSpPr/>
          <p:nvPr/>
        </p:nvSpPr>
        <p:spPr>
          <a:xfrm>
            <a:off x="457200" y="5410080"/>
            <a:ext cx="830592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Verdana"/>
              </a:rPr>
              <a:t>Food Additive vs Dietary Suppl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b050"/>
                </a:solidFill>
                <a:latin typeface="Verdana"/>
              </a:rPr>
              <a:t>	</a:t>
            </a:r>
            <a:r>
              <a:rPr b="1" lang="en-US" sz="4400" spc="-1" strike="noStrike">
                <a:solidFill>
                  <a:srgbClr val="00b050"/>
                </a:solidFill>
                <a:latin typeface="Verdana"/>
              </a:rPr>
              <a:t>Zevia</a:t>
            </a:r>
            <a:br>
              <a:rPr sz="4400"/>
            </a:br>
            <a:r>
              <a:rPr b="1" lang="en-US" sz="3200" spc="-1" strike="noStrike">
                <a:solidFill>
                  <a:srgbClr val="00b050"/>
                </a:solidFill>
                <a:latin typeface="Verdana"/>
              </a:rPr>
              <a:t>Diet Cola or Dietary Supplement?</a:t>
            </a:r>
            <a:endParaRPr b="0" lang="en-US" sz="3200" spc="-1" strike="noStrike">
              <a:solidFill>
                <a:srgbClr val="000000"/>
              </a:solidFill>
              <a:latin typeface="Verdana"/>
            </a:endParaRPr>
          </a:p>
        </p:txBody>
      </p:sp>
      <p:sp>
        <p:nvSpPr>
          <p:cNvPr id="19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F2B7-4446-48FC-B667-456389C65B95}"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92" name="Content Placeholder 9" descr="ZeviaCola2.PNG"/>
          <p:cNvPicPr/>
          <p:nvPr/>
        </p:nvPicPr>
        <p:blipFill>
          <a:blip r:embed="rId1"/>
          <a:stretch/>
        </p:blipFill>
        <p:spPr>
          <a:xfrm>
            <a:off x="609480" y="2338560"/>
            <a:ext cx="3819600" cy="3790800"/>
          </a:xfrm>
          <a:prstGeom prst="rect">
            <a:avLst/>
          </a:prstGeom>
          <a:ln w="0">
            <a:noFill/>
          </a:ln>
        </p:spPr>
      </p:pic>
      <p:pic>
        <p:nvPicPr>
          <p:cNvPr id="193" name="Content Placeholder 9" descr="ZeviaCola2.PNG"/>
          <p:cNvPicPr/>
          <p:nvPr/>
        </p:nvPicPr>
        <p:blipFill>
          <a:blip r:embed="rId2"/>
          <a:stretch/>
        </p:blipFill>
        <p:spPr>
          <a:xfrm>
            <a:off x="4514760" y="2581200"/>
            <a:ext cx="3791160" cy="3819600"/>
          </a:xfrm>
          <a:prstGeom prst="rect">
            <a:avLst/>
          </a:prstGeom>
          <a:ln w="0">
            <a:noFill/>
          </a:ln>
        </p:spPr>
      </p:pic>
      <p:pic>
        <p:nvPicPr>
          <p:cNvPr id="194" name="Picture 11" descr="ZeviaCola1.PNG"/>
          <p:cNvPicPr/>
          <p:nvPr/>
        </p:nvPicPr>
        <p:blipFill>
          <a:blip r:embed="rId3"/>
          <a:stretch/>
        </p:blipFill>
        <p:spPr>
          <a:xfrm>
            <a:off x="3733920" y="304920"/>
            <a:ext cx="1809720" cy="144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Nicotene and Smoking</a:t>
            </a:r>
            <a:endParaRPr b="0" lang="en-US" sz="4400" spc="-1" strike="noStrike">
              <a:solidFill>
                <a:srgbClr val="000000"/>
              </a:solidFill>
              <a:latin typeface="Verdana"/>
            </a:endParaRPr>
          </a:p>
        </p:txBody>
      </p:sp>
      <p:sp>
        <p:nvSpPr>
          <p:cNvPr id="196" name=""/>
          <p:cNvSpPr txBox="1"/>
          <p:nvPr/>
        </p:nvSpPr>
        <p:spPr>
          <a:xfrm>
            <a:off x="457200" y="160020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uses vasoconstriction(</a:t>
            </a:r>
            <a:r>
              <a:rPr b="0" lang="en-US" sz="2800" spc="-1" strike="noStrike">
                <a:solidFill>
                  <a:srgbClr val="0070c0"/>
                </a:solidFill>
                <a:latin typeface="Verdana"/>
              </a:rPr>
              <a:t>Hypertension</a:t>
            </a:r>
            <a:r>
              <a:rPr b="0" lang="en-US" sz="3200" spc="-1" strike="noStrike">
                <a:solidFill>
                  <a:srgbClr val="000000"/>
                </a:solidFill>
                <a:latin typeface="Verdana"/>
              </a:rPr>
              <a:t>)</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absorption of   Vitamin C</a:t>
            </a:r>
            <a:endParaRPr b="0" lang="en-US" sz="3200" spc="-1" strike="noStrike">
              <a:solidFill>
                <a:srgbClr val="000000"/>
              </a:solidFill>
              <a:latin typeface="Verdana"/>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321E-694E-48E8-9133-8F70DD31CAEF}"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98" name="Picture 4" descr="Nicotine.PNG"/>
          <p:cNvPicPr/>
          <p:nvPr/>
        </p:nvPicPr>
        <p:blipFill>
          <a:blip r:embed="rId1"/>
          <a:stretch/>
        </p:blipFill>
        <p:spPr>
          <a:xfrm>
            <a:off x="3962520" y="3333600"/>
            <a:ext cx="4572000" cy="2762280"/>
          </a:xfrm>
          <a:prstGeom prst="rect">
            <a:avLst/>
          </a:prstGeom>
          <a:ln w="0">
            <a:noFill/>
          </a:ln>
        </p:spPr>
      </p:pic>
      <p:sp>
        <p:nvSpPr>
          <p:cNvPr id="199" name="Content Placeholder 2"/>
          <p:cNvSpPr/>
          <p:nvPr/>
        </p:nvSpPr>
        <p:spPr>
          <a:xfrm>
            <a:off x="457200" y="3200400"/>
            <a:ext cx="30481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 Carcinog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1"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NS Stimulan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heart rat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uretic Effe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EA42-1734-41C0-A77D-C14D2D89F8F1}"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203" name="" descr=""/>
          <p:cNvPicPr/>
          <p:nvPr/>
        </p:nvPicPr>
        <p:blipFill>
          <a:blip r:embed="rId1"/>
          <a:stretch/>
        </p:blipFill>
        <p:spPr>
          <a:xfrm>
            <a:off x="4876920" y="2724120"/>
            <a:ext cx="3200400" cy="32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Caffeine</a:t>
            </a:r>
            <a:endParaRPr b="0" lang="en-US" sz="4400" spc="-1" strike="noStrike">
              <a:solidFill>
                <a:srgbClr val="000000"/>
              </a:solidFill>
              <a:latin typeface="Verdana"/>
            </a:endParaRPr>
          </a:p>
        </p:txBody>
      </p:sp>
      <p:sp>
        <p:nvSpPr>
          <p:cNvPr id="205" name=""/>
          <p:cNvSpPr txBox="1"/>
          <p:nvPr/>
        </p:nvSpPr>
        <p:spPr>
          <a:xfrm>
            <a:off x="456840" y="2437920"/>
            <a:ext cx="426708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dden withdrawal of caffeine may lead to headach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795C-130E-47A5-B2F8-67373F0532A3}"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207" name="" descr=""/>
          <p:cNvPicPr/>
          <p:nvPr/>
        </p:nvPicPr>
        <p:blipFill>
          <a:blip r:embed="rId1"/>
          <a:stretch/>
        </p:blipFill>
        <p:spPr>
          <a:xfrm>
            <a:off x="4876920" y="2724120"/>
            <a:ext cx="3200400" cy="3295800"/>
          </a:xfrm>
          <a:prstGeom prst="rect">
            <a:avLst/>
          </a:prstGeom>
          <a:ln w="0">
            <a:noFill/>
          </a:ln>
        </p:spPr>
      </p:pic>
      <p:pic>
        <p:nvPicPr>
          <p:cNvPr id="208" name="" descr=""/>
          <p:cNvPicPr/>
          <p:nvPr/>
        </p:nvPicPr>
        <p:blipFill>
          <a:blip r:embed="rId2"/>
          <a:stretch/>
        </p:blipFill>
        <p:spPr>
          <a:xfrm>
            <a:off x="838080" y="1523880"/>
            <a:ext cx="1676520" cy="148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lcohol</a:t>
            </a:r>
            <a:endParaRPr b="0" lang="en-US" sz="4400" spc="-1" strike="noStrike">
              <a:solidFill>
                <a:srgbClr val="000000"/>
              </a:solidFill>
              <a:latin typeface="Verdana"/>
            </a:endParaRPr>
          </a:p>
        </p:txBody>
      </p:sp>
      <p:sp>
        <p:nvSpPr>
          <p:cNvPr id="210" name=""/>
          <p:cNvSpPr txBox="1"/>
          <p:nvPr/>
        </p:nvSpPr>
        <p:spPr>
          <a:xfrm>
            <a:off x="456840" y="1447920"/>
            <a:ext cx="5257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kilocalories per gra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ty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metabolism</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xic to Liver and Brai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eres with metabolism of          B-complex       Vitamin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8B01-07B5-4DF7-87A0-D92944950F71}"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212" name="Picture 5" descr="Alcohol.png"/>
          <p:cNvPicPr/>
          <p:nvPr/>
        </p:nvPicPr>
        <p:blipFill>
          <a:blip r:embed="rId1"/>
          <a:stretch/>
        </p:blipFill>
        <p:spPr>
          <a:xfrm>
            <a:off x="4695840" y="2271600"/>
            <a:ext cx="3990960" cy="35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Rectangl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A70A-2520-4311-AFAE-8BFDCBD11E1F}" type="datetime12">
              <a:rPr b="0" lang="en-US" sz="1200" spc="-1" strike="noStrike">
                <a:solidFill>
                  <a:srgbClr val="898989"/>
                </a:solidFill>
                <a:latin typeface="Verdana"/>
              </a:rPr>
              <a:t>02:01 AM</a:t>
            </a:fld>
            <a:endParaRPr b="0" lang="en-US" sz="1200" spc="-1" strike="noStrike">
              <a:solidFill>
                <a:srgbClr val="000000"/>
              </a:solidFill>
              <a:latin typeface="Arial"/>
            </a:endParaRPr>
          </a:p>
        </p:txBody>
      </p:sp>
      <p:sp>
        <p:nvSpPr>
          <p:cNvPr id="214"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5"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216"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217"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218"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tass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2"/>
          <p:cNvSpPr txBox="1"/>
          <p:nvPr/>
        </p:nvSpPr>
        <p:spPr>
          <a:xfrm>
            <a:off x="466560" y="23623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lc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Vitami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3"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diu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4"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odi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5" name="PlaceHolder 1"/>
          <p:cNvSpPr>
            <a:spLocks noGrp="1"/>
          </p:cNvSpPr>
          <p:nvPr>
            <p:ph type="subTitle"/>
          </p:nvPr>
        </p:nvSpPr>
        <p:spPr>
          <a:xfrm>
            <a:off x="1371600" y="1905120"/>
            <a:ext cx="6400800" cy="76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Vitamins</a:t>
            </a:r>
            <a:endParaRPr b="0" lang="en-US" sz="4000" spc="-1" strike="noStrike">
              <a:solidFill>
                <a:srgbClr val="000000"/>
              </a:solidFill>
              <a:latin typeface="Verdana"/>
            </a:endParaRPr>
          </a:p>
        </p:txBody>
      </p:sp>
      <p:sp>
        <p:nvSpPr>
          <p:cNvPr id="226" name="Rectangle 3"/>
          <p:cNvSpPr/>
          <p:nvPr/>
        </p:nvSpPr>
        <p:spPr>
          <a:xfrm>
            <a:off x="1371600" y="2590920"/>
            <a:ext cx="64008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Verdana"/>
              </a:rPr>
              <a:t>Miner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lysaccharid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tructure to plan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gestib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health benefi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fied a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olubl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Insoluble</a:t>
            </a:r>
            <a:endParaRPr b="0" lang="en-US" sz="2800" spc="-1" strike="noStrike">
              <a:solidFill>
                <a:srgbClr val="000000"/>
              </a:solidFill>
              <a:latin typeface="Verdana"/>
            </a:endParaRPr>
          </a:p>
        </p:txBody>
      </p:sp>
      <p:sp>
        <p:nvSpPr>
          <p:cNvPr id="135"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5CBD-6AE0-4ECB-92A2-2D46F2A8061F}"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oluble Fiber</a:t>
            </a:r>
            <a:endParaRPr b="0" lang="en-US" sz="4400" spc="-1" strike="noStrike">
              <a:solidFill>
                <a:srgbClr val="000000"/>
              </a:solidFill>
              <a:latin typeface="Verdana"/>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olves to gummy, viscous textur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ows gastric emptying</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ight control</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ays absorption of gluc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s to cholesterol</a:t>
            </a:r>
            <a:endParaRPr b="0" lang="en-US" sz="3200" spc="-1" strike="noStrike">
              <a:solidFill>
                <a:srgbClr val="000000"/>
              </a:solidFill>
              <a:latin typeface="Verdana"/>
            </a:endParaRPr>
          </a:p>
        </p:txBody>
      </p:sp>
      <p:sp>
        <p:nvSpPr>
          <p:cNvPr id="13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B121-A5C7-47B4-9FDB-07520232A9DF}"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39" name="Picture 4" descr="oatmeal.png"/>
          <p:cNvPicPr/>
          <p:nvPr/>
        </p:nvPicPr>
        <p:blipFill>
          <a:blip r:embed="rId1"/>
          <a:stretch/>
        </p:blipFill>
        <p:spPr>
          <a:xfrm>
            <a:off x="1523880" y="4648320"/>
            <a:ext cx="3048120" cy="1984320"/>
          </a:xfrm>
          <a:prstGeom prst="rect">
            <a:avLst/>
          </a:prstGeom>
          <a:ln w="0">
            <a:noFill/>
          </a:ln>
        </p:spPr>
      </p:pic>
      <p:pic>
        <p:nvPicPr>
          <p:cNvPr id="140" name="Picture 5" descr="Fruit.PNG"/>
          <p:cNvPicPr/>
          <p:nvPr/>
        </p:nvPicPr>
        <p:blipFill>
          <a:blip r:embed="rId2"/>
          <a:stretch/>
        </p:blipFill>
        <p:spPr>
          <a:xfrm>
            <a:off x="5105520" y="4114800"/>
            <a:ext cx="243828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Insoluble Fiber</a:t>
            </a:r>
            <a:endParaRPr b="0" lang="en-US" sz="4400" spc="-1" strike="noStrike">
              <a:solidFill>
                <a:srgbClr val="000000"/>
              </a:solidFill>
              <a:latin typeface="Verdana"/>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speed through intestin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reases risk for constip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s risk of diverticular disea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ught to reduce risk of some cancer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5C70-261C-4666-AEEA-C5BA83D2D59C}"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pic>
        <p:nvPicPr>
          <p:cNvPr id="144" name="Picture 4" descr="wheatbread.PNG"/>
          <p:cNvPicPr/>
          <p:nvPr/>
        </p:nvPicPr>
        <p:blipFill>
          <a:blip r:embed="rId1"/>
          <a:stretch/>
        </p:blipFill>
        <p:spPr>
          <a:xfrm>
            <a:off x="2543040" y="3956040"/>
            <a:ext cx="423864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littl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ipation</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risk of some cancer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erticulosis</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uch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ating</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rrhea</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7AF5-8182-401B-B80A-216BD8FC46E3}"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Fiber</a:t>
            </a:r>
            <a:endParaRPr b="0" lang="en-US" sz="4400" spc="-1" strike="noStrike">
              <a:solidFill>
                <a:srgbClr val="000000"/>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daily intake</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 grams fiber for every 1000 kca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 25 grams – 35 grams per day</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or eating more fiber</a:t>
            </a:r>
            <a:endParaRPr b="0" lang="en-US" sz="32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 of plant food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grains rather than refined grains</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legumes 2 to 3 times per week</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oods with 5 grams or more of fiber</a:t>
            </a: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217E-C38B-44A7-80F1-B1BEB63AD97F}"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Artificial Sweeteners</a:t>
            </a:r>
            <a:endParaRPr b="0" lang="en-US" sz="4400" spc="-1" strike="noStrike">
              <a:solidFill>
                <a:srgbClr val="000000"/>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w calorie sweeteners (</a:t>
            </a:r>
            <a:r>
              <a:rPr b="0" lang="en-US" sz="2800" spc="-1" strike="noStrike">
                <a:solidFill>
                  <a:srgbClr val="0070c0"/>
                </a:solidFill>
                <a:latin typeface="Verdana"/>
              </a:rPr>
              <a:t>Sugar Alcohols</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nutritive Sweeteners</a:t>
            </a:r>
            <a:endParaRPr b="0" lang="en-US" sz="32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accharin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Sucralose</a:t>
            </a:r>
            <a:endParaRPr b="0" lang="en-US" sz="2800" spc="-1" strike="noStrike">
              <a:solidFill>
                <a:srgbClr val="000000"/>
              </a:solidFill>
              <a:latin typeface="Verdana"/>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Aspartame</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9DA1-C581-4D24-B680-5FA1D5CA0F7E}"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4" name="Picture 7" descr="Xylitol.PNG"/>
          <p:cNvPicPr/>
          <p:nvPr/>
        </p:nvPicPr>
        <p:blipFill>
          <a:blip r:embed="rId1"/>
          <a:stretch/>
        </p:blipFill>
        <p:spPr>
          <a:xfrm>
            <a:off x="5105520" y="3108240"/>
            <a:ext cx="3886200" cy="275904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ugar Alcohols</a:t>
            </a:r>
            <a:endParaRPr b="0" lang="en-US" sz="4400" spc="-1" strike="noStrike">
              <a:solidFill>
                <a:srgbClr val="000000"/>
              </a:solidFill>
              <a:latin typeface="Verdana"/>
            </a:endParaRPr>
          </a:p>
        </p:txBody>
      </p:sp>
      <p:sp>
        <p:nvSpPr>
          <p:cNvPr id="156"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de from real sugar, reduced calorie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n’t promote tooth decay</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ugarless gums</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519A-93F3-4B69-BF96-1A12A5EB7460}"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
        <p:nvSpPr>
          <p:cNvPr id="158" name="Content Placeholder 2"/>
          <p:cNvSpPr/>
          <p:nvPr/>
        </p:nvSpPr>
        <p:spPr>
          <a:xfrm>
            <a:off x="457200" y="3809880"/>
            <a:ext cx="35053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xative effect (</a:t>
            </a:r>
            <a:r>
              <a:rPr b="0" lang="en-US" sz="3200" spc="-1" strike="noStrike">
                <a:solidFill>
                  <a:srgbClr val="0070c0"/>
                </a:solidFill>
                <a:latin typeface="Verdana"/>
              </a:rPr>
              <a:t>Sorbitol</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10" descr="Sorbitol.PNG"/>
          <p:cNvPicPr/>
          <p:nvPr/>
        </p:nvPicPr>
        <p:blipFill>
          <a:blip r:embed="rId2"/>
          <a:stretch/>
        </p:blipFill>
        <p:spPr>
          <a:xfrm>
            <a:off x="2819520" y="4343400"/>
            <a:ext cx="2476440" cy="23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0" name="Picture 8" descr="SweetnLow2.PNG"/>
          <p:cNvPicPr/>
          <p:nvPr/>
        </p:nvPicPr>
        <p:blipFill>
          <a:blip r:embed="rId1"/>
          <a:stretch/>
        </p:blipFill>
        <p:spPr>
          <a:xfrm>
            <a:off x="3809880" y="3395520"/>
            <a:ext cx="4953240" cy="3310200"/>
          </a:xfrm>
          <a:prstGeom prst="rect">
            <a:avLst/>
          </a:prstGeom>
          <a:ln w="0">
            <a:noFill/>
          </a:ln>
        </p:spPr>
      </p:pic>
      <p:pic>
        <p:nvPicPr>
          <p:cNvPr id="161" name="Picture 7" descr="SweetnLow1.PNG"/>
          <p:cNvPicPr/>
          <p:nvPr/>
        </p:nvPicPr>
        <p:blipFill>
          <a:blip r:embed="rId2"/>
          <a:stretch/>
        </p:blipFill>
        <p:spPr>
          <a:xfrm rot="19198800">
            <a:off x="833040" y="4217760"/>
            <a:ext cx="2638440" cy="162864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Verdana"/>
              </a:rPr>
              <a:t>Saccharin</a:t>
            </a:r>
            <a:endParaRPr b="0" lang="en-US" sz="4400" spc="-1" strike="noStrike">
              <a:solidFill>
                <a:srgbClr val="000000"/>
              </a:solidFill>
              <a:latin typeface="Verdana"/>
            </a:endParaRPr>
          </a:p>
        </p:txBody>
      </p:sp>
      <p:sp>
        <p:nvSpPr>
          <p:cNvPr id="163" name=""/>
          <p:cNvSpPr txBox="1"/>
          <p:nvPr/>
        </p:nvSpPr>
        <p:spPr>
          <a:xfrm>
            <a:off x="457200" y="160020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artificial sweetener</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0 times sweeter than sucros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Sweet ‘n’ Low and Sugar Twin</a:t>
            </a: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4B90-B3E8-41CD-93BB-1F49BCD84329}" type="datetime12">
              <a:rPr b="1" lang="en-US" sz="1200" spc="-1" strike="noStrike">
                <a:solidFill>
                  <a:srgbClr val="00b050"/>
                </a:solidFill>
                <a:latin typeface="Verdana"/>
              </a:rPr>
              <a:t>02:01 AM</a:t>
            </a:fld>
            <a:endParaRPr b="0" lang="en-US" sz="1200" spc="-1" strike="noStrike">
              <a:solidFill>
                <a:srgbClr val="000000"/>
              </a:solidFill>
              <a:latin typeface="Arial"/>
            </a:endParaRPr>
          </a:p>
        </p:txBody>
      </p:sp>
      <p:sp>
        <p:nvSpPr>
          <p:cNvPr id="165" name="Oval 6"/>
          <p:cNvSpPr/>
          <p:nvPr/>
        </p:nvSpPr>
        <p:spPr>
          <a:xfrm>
            <a:off x="4114800" y="4495680"/>
            <a:ext cx="4267080" cy="533520"/>
          </a:xfrm>
          <a:prstGeom prst="ellipse">
            <a:avLst/>
          </a:prstGeom>
          <a:noFill/>
          <a:ln w="633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15:51Z</dcterms:created>
  <dc:creator>Janet</dc:creator>
  <dc:description/>
  <dc:language>en-US</dc:language>
  <cp:lastModifiedBy> </cp:lastModifiedBy>
  <dcterms:modified xsi:type="dcterms:W3CDTF">2010-03-06T17:15:39Z</dcterms:modified>
  <cp:revision>57</cp:revision>
  <dc:subject/>
  <dc:title>Non-Nutrients</dc:title>
</cp:coreProperties>
</file>