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3.jpeg" ContentType="image/jpeg"/>
  <Override PartName="/ppt/media/image23.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9.jpeg" ContentType="image/jpeg"/>
  <Override PartName="/ppt/media/image28.png" ContentType="image/png"/>
  <Override PartName="/ppt/media/image5.png" ContentType="image/png"/>
  <Override PartName="/ppt/media/image30.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move the slide</a:t>
            </a:r>
            <a:endParaRPr b="1" lang="en-US" sz="4800" spc="-1" strike="noStrike">
              <a:solidFill>
                <a:srgbClr val="333399"/>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02C522-6E8F-498D-894D-A0CBF185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critical to life.  Good food is critical to good health.  Some diseases that are strongly associated with foods and the diet include Osteoporosis (calcium), Type 2 Diabtes (obesity), Heart Disease (cholesterol), and hypertension (sodium).  Some diseases are caused by a deficiency of nutrients, diseases like Pellegra (Niacin), Scurvy (Vitamin C), and Goiter (iodine).  Adequate intakes of fiber and Vitamin D are thought to decrease the occurrence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gistered dietitian specializes in analyzing and meeting the nutritional needs of people.  Not everyone who calls themselves a dietitian is a registered dietitian.  Titles like ‘board certified nutritionist,’ ‘professional nutritionist,’ or even ‘licensed nutritionist,’ lack credibility.  The registered dietitian uses the initials RD after his or her name.  The registered dietitian is the nutritional expert.  It is the registered dietitian who recommends therapeutic diets, but, remember, only the physician can actually order th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come in all sizes and shapes.  Some are RN’s with a baccalaureate degree, others with an associates degree.  There are also LPN’s, hopefully you someday.  Some states use the term LVN rather than LPN.  Nurses are responsible for not only bringing the food to their patients, but also for assessing and evaluating their patients’ responses to that diet.  Nurses help develop, support, and carry out the nutritional plan recommended by the registered dietitian and prescribed by the physician.  Nurses are responsible for nutritional assessments and are often the first person to notice when a diet needs to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patient is always a part of his or her own health team.  Patients need to be motivated to comply with good nutrition.  This motivation usually comes from sound knowledge and it is often the nurse who provides this sou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made of nutrients.  Nutrients are the chemicals in food that are critical to human growth and function.  Most foods have more than one nutrient, but all foods have some nutrients.  The functions of nutrients are to 1) provide energy, 2) build tissue, and 3) regulate body cellular functions.  Remember that all body functions take place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is the capacity to do work.  Just as your vacuumn cleaner requires electrical energy to work, so does your body require nutrient energy to function.  Electrical energy is measured in amps, volts, and watts.  Organic energy is measured in Calories and j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study of nutrition, energy is measured in kilocalories or the Calorie with a capital C.  There is a difference between a calorie with a lower case c and a Calorie with an uppercase C.  If we were in the chemist’s lab, we’d we a little more careful.  Here, in nutrition, we will assume all calories, whether the c is lower or upper case, mean the kilocalorie.  One kilocarie is the amount of heat (or energy) required to raise the degree of one cubic centimeter of water one degree cels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oric measurement is approx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due to each person’s system being a little different.  People with high metabolic rates are probably going to absorb fewer calories, people with low metabolic rates are probably going to absorb more calories.  Age, gender, activity levels, illness, medications, and a host of other factors affect the actual amount of nutrients and calories absorbed as well.  Still, we can offer some standard numbers to help determine the energy content, or calories, of specific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trients that provide energy are the Macronutrients.  The first of these are carbohydrates.  Carbohydrates are sugar, candies, breads, cereals, and potatoes.  All plants, including fruits and vegetables, contain carbohydrates as well.  Each gram of a carbohydrate yields 4 kilocalories.  A penny weighs about a 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each gram of a carbohydrate yields 4 Calories, then how many Calories in a 4 gm packet of sugar?  Answer = 16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the study of the food people use and how their bodies use that food.  Like nursing, nutrition is both a science and an art.  The science of nutrition is concerned with the body’s requirements for food to maintain life.  This is based upon scientific knowledge and research.  The art of nursing is more concerned with how foods and food information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carbohydrates?  Bad carbohydrates?  Carbohydrates aren’t well thought of these days, and, yet, the whole wheats are proven to be associated with good health.  More about these good carbs and bad carbs next class when we discuss the Food Pyrami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s are a greater source of energy.  Fats yield 9 Calories per gram.  Of course when those Calories aren’t burned, the Calories will be stored as body fat, making fat a less than desirable nutrient.  Fats are also called lipids, because of their composition.  Cholesterol is a lipid, as are triglycerides and trans fa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ablespoon of olive oil weighs 14 gm.  How many Calories is that?  Answer = 126 Calories.  Because fats contain more Calories per gram, they are said to be </a:t>
            </a:r>
            <a:r>
              <a:rPr b="0" i="1" lang="en-US" sz="1200" spc="-1" strike="noStrike">
                <a:solidFill>
                  <a:srgbClr val="000000"/>
                </a:solidFill>
                <a:latin typeface="Arial"/>
              </a:rPr>
              <a:t>calorically den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fats?  Bad fats?  Many of you have heard about saturated fats, polyunsaturated fats, and trans fats.  The body needs some fats.  Polyunsaturated fats are better than saturated fats.  Trans fats are never good.  Saturated fats and trans fats raise cholesterol levels, posing a threat for high blood pressure, heart attacks, and strokes.  Later, in Unit II, you’ll learn more about the composition of these fats and perhaps have a better understanding as to why cholesterol poses these health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ein, the buiding blocks of life.  Everyone needs protein and, yet, even too much protein can be a bad thing.  Proteins have the same energy value as carbohydrates: 4 Calories per gr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ypical egg weighs 6 grams.  How many calories in 3 eggs?  Answer: 4 * 6 * 3 =72 kc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t proteins, especially red meats, may also contribute to high blood cholesterol levels.  That’s because most meats have a lot of fat. Meat proteins, especially red meats, may also contribute to high blood cholesterol levels.  Most meats have a lot of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or caloric density is a proportion of kilocalories per weight of food.  Why does the breakfast on the right have the same amount of Calories as the breakfast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cronutrients provide energy in the form of Calories.  It is important to remember that excess, unused Calories, even those obtained from carbohydrates and proteins, will eventually be stored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ents that are essential to life but do not provide energy are called Micronutrients.  Protein is both a macronutrient and a micronutrient, though it’s usually thought of as one of the 3 macronutrients.  Protein provides the amino acids necessary for cell stru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a science because it’s based upon a body of knowledge, and that knowledge continues to be rigoursly tested with scientific research.  Globally, WHO (World Health Organization), and nationally, FDA (Food and Drug Administration) apply standards based upon this scientific knowledge.  It is scientific fact that too much or too little of certain foods contribute to disease and disorders and that foods interact with medications.  The art of nutrition is concerned with how do we guide people to make healthier choices, how we plan, prepare, and present meals, and how we honor people’s ethnic and  cultural choices when we present thos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lso contribute to tissue growth.  An example is Vitamin C which helps to form collagen.  Collagen fibers give firmness to skin tissue.  As we age, we lose collagen and the tissue ‘collapses,’ forming wrinkl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are also micronutrients that help to build tissue.  Iron is an important mineral that is essential in forming hemaglobin, the oxygen carrying components of th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ty acids, though found in fats and oils, are essential for optimal health.  Fatty acids help to transport oxygen in the blood, help to build strong cells and tissues, and even help the body to get rid of excess cholesterol.  Omega-3 is a fatty acid.  Because fatty acids regulate body functions as well as provide tissue and cell structure, fatty acids also act as regul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nd minerals act as regulators as well.  Although Vitamin C doesn’t produce energy, it is essential to the capture and release of energy that occurs in the body.  Potassium and Calcium are required for muscle contraction.  So fatty acids, vitamins, and minerals are important in building cells and tissues and also in maintaining cellular and bod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to the macronutrients and the micronutrients, there are two very important non-nutrients.  These are water and fiber.  Water makes up about 60% of the body weight, water carries the nutrients to the cells, and every system is dependent upon water.  Typically, a person needs 8 glasses of water per day.  Fiber isn’t actually digested.  The sole purpose of fiber is to help solid waste move through the colon.  The healthy body needs fiber every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o much of anything can be not good.  If the body doesn’t have enough potassium, a state called hypokalemia, then the heartbeat will become erratic and the person will die.  Too much potassium, hyperkalemia, and the heart will stop beating altogether, also resulting in death.  With few exceptions, there are no good nutrients vs bad nutrients.  There might be some foods that are more or less beneficial than others, but there are no bad nutrients.  If it were bad for you, it wouldn’t be a nutrient.  Having said that, any nutrient taken in excessive quantities can be harmful if not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at’s the goal here?  The goal is to achieve optimum nutrition, or the best possible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usually think of malnutrition as being too little food.  In fact, malnutrition can be too little food, too little calories, too little of one or more nutrients, or even too much.  Sailors often developed scurvy, a disease caused by insufficient Vitamin C.  Once the link between Scurvy and Vitamin C was found, large quantities of limes were loaded into the ships for the men to consume at sea.  Hence, the sailors were called ‘limeys.’  Osteoporosis results from the undernutrition of calcium.  Heart disease can result from too much fat, especially choleseterol and trans fats, so a person who eats too many fats may be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nutrition is the result of ingesting too many Calories.  What the body doesn’t burn, the body eventually stores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undernourished state results from too little food or too few nutrients.  Most of the time undernutrition is synonymous with poverty, but it can also be associated with insufficient knowledge, mental illness, the aging process, chronic illness, and prolonged hospit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need to study nutrition because good nutrition is essential to wellness and because poor nutrition contributes to disease.  Nurses need to personally maintain good nutrition to keep themselves healthy and nurses need to promote good nutrition to keep their patients healthy.  A sound basis of nutrition also helps the student nurse prepare for the more advanced Diet Therapy course in Term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tart Unit I by looking at how we can become a better informed consumer.  A nurse who is an informed consumer can help patients and clients maintain wellness.  We’ll end Unit I by looking at how nurses can help patients and clients in the hospital and long term care settings achieve better nutrition.  First, let’s look at your nutri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work assig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o needs to learn about nutrition?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ld Health Organization (WHO) defines health as ‘the state of complete physical, mental and social well-being and not merely the absence of disease or infirmity.'  Nutrition contributes to all areas of wellness.  Not everyone achieves optimum nutrition, sometimes because of limited resources, sometimes by poor foo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nsecurity – Limited or uncertain availability of food.  Food insecurity can be due to poverty, poor access or poor knowledge.  Food insecurity is usually associated with underdeveloped countries, but food insecurity is a problem here in the United States with the homeless, children, and the elderly.  Efforts to provide nutritious foods to these populations include soup kitchens, food stamps, school breakfast and lunch programs, and meals on wheels for the eld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rse is divided into 4 units.  There will be a one hour exam at the completion of each unit.  Each test is designed to test the material learned in each unit.  In addition, there will be a food analysis project that will be assigned tonight.  This project is due before Unit II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n the course, there will be a group cultural project.  Each group will present nutrition and health information specific to a different cultural or ethnic group.  There will be 4 – 5 students in a group.  Groups won’t be assigned until near the completion of Unit I.  This will give each of you a chance to meet your fellow students and have a say in who you would like to be grouped with.  The syllabus breaks down the percentage of each test and proj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members of the nutrition health care team?  The physician is the only person who can prescribe, or order, a therapeutic diet.  Therapeutic diets are diets that either restrict or emphasize certain food items.  This might be a low salt diet, a high fat diet, a diabetic diet, or even no diet at all, something we call NPO.  A therapeutic diet is based upon the observations and recommendations made by many health care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AA01EC-E215-4865-B800-4B68B166E4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8" name="PlaceHolder 2"/>
          <p:cNvSpPr>
            <a:spLocks noGrp="1"/>
          </p:cNvSpPr>
          <p:nvPr>
            <p:ph/>
          </p:nvPr>
        </p:nvSpPr>
        <p:spPr>
          <a:xfrm>
            <a:off x="1066680" y="160020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F7B7D21-8A05-4FF3-93FC-4EC428775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1"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FEB76F4-0CBE-417A-8E95-639E2F3B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6" name="PlaceHolder 2"/>
          <p:cNvSpPr>
            <a:spLocks noGrp="1"/>
          </p:cNvSpPr>
          <p:nvPr>
            <p:ph/>
          </p:nvPr>
        </p:nvSpPr>
        <p:spPr>
          <a:xfrm>
            <a:off x="10666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4372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80752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666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4372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80752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84C24CB-8D98-4234-A62A-1D93DD6855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7" name="PlaceHolder 2"/>
          <p:cNvSpPr>
            <a:spLocks noGrp="1"/>
          </p:cNvSpPr>
          <p:nvPr>
            <p:ph type="subTitle"/>
          </p:nvPr>
        </p:nvSpPr>
        <p:spPr>
          <a:xfrm>
            <a:off x="1066680" y="1600200"/>
            <a:ext cx="70106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D9341F-CDC5-4D5A-9394-3BD5FCB3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9"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32917BC-B49A-40FF-ACCB-F8327DAA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1"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AB1BB7C-0CFE-435E-B557-BA201F18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 name="PlaceHolder 2"/>
          <p:cNvSpPr>
            <a:spLocks noGrp="1"/>
          </p:cNvSpPr>
          <p:nvPr>
            <p:ph type="sldNum" idx="2"/>
          </p:nvPr>
        </p:nvSpPr>
        <p:spPr/>
        <p:txBody>
          <a:bodyPr/>
          <a:p>
            <a:fld id="{F1790606-CAE2-4F4F-A33C-D04220B35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7432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8406A0F-B1DD-41D4-BCC6-6C756DFE1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6"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8CEED6D-DAF5-4CDB-A571-AEC97147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0"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9895DEF-5643-436C-AB58-9CA09FF0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4"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495412-D528-47B2-B346-95CE0D4F8E0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edit the title text format</a:t>
            </a:r>
            <a:endParaRPr b="1" lang="en-US" sz="4800" spc="-1" strike="noStrike">
              <a:solidFill>
                <a:srgbClr val="333399"/>
              </a:solidFill>
              <a:latin typeface="Times New Roman"/>
            </a:endParaRPr>
          </a:p>
        </p:txBody>
      </p:sp>
      <p:sp>
        <p:nvSpPr>
          <p:cNvPr id="1" name="PlaceHolder 2"/>
          <p:cNvSpPr>
            <a:spLocks noGrp="1"/>
          </p:cNvSpPr>
          <p:nvPr>
            <p:ph type="body"/>
          </p:nvPr>
        </p:nvSpPr>
        <p:spPr>
          <a:xfrm>
            <a:off x="1066680" y="1600200"/>
            <a:ext cx="7010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58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cc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0B87-AE2B-46AA-AAD8-B70DC07425B7}"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666430EE-C792-4A05-BEA7-E349E90A63E5}" type="datetime10">
              <a:rPr b="1" lang="en-US" sz="1400" spc="-1" strike="noStrike">
                <a:solidFill>
                  <a:srgbClr val="99cc00"/>
                </a:solidFill>
                <a:latin typeface="Times New Roman"/>
              </a:rPr>
              <a:t>06:39</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1066680" y="6244920"/>
            <a:ext cx="1524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953B-C900-4E3B-AFF8-2CDC7E60FA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152280"/>
            <a:ext cx="1092240" cy="6553440"/>
          </a:xfrm>
          <a:prstGeom prst="rect">
            <a:avLst/>
          </a:prstGeom>
          <a:ln w="0">
            <a:noFill/>
          </a:ln>
        </p:spPr>
      </p:pic>
      <p:pic>
        <p:nvPicPr>
          <p:cNvPr id="5" name="" descr=""/>
          <p:cNvPicPr/>
          <p:nvPr/>
        </p:nvPicPr>
        <p:blipFill>
          <a:blip r:embed="rId3"/>
          <a:stretch/>
        </p:blipFill>
        <p:spPr>
          <a:xfrm>
            <a:off x="8051760" y="152280"/>
            <a:ext cx="1092240" cy="655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0" name="PlaceHolder 2"/>
          <p:cNvSpPr>
            <a:spLocks noGrp="1"/>
          </p:cNvSpPr>
          <p:nvPr>
            <p:ph/>
          </p:nvPr>
        </p:nvSpPr>
        <p:spPr>
          <a:xfrm>
            <a:off x="2819160" y="1904760"/>
            <a:ext cx="3429000" cy="42210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at is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y study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o needs i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800600" y="2286000"/>
            <a:ext cx="2406600" cy="3581280"/>
          </a:xfrm>
          <a:prstGeom prst="rect">
            <a:avLst/>
          </a:prstGeom>
          <a:ln w="0">
            <a:noFill/>
          </a:ln>
        </p:spPr>
      </p:pic>
      <p:sp>
        <p:nvSpPr>
          <p:cNvPr id="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0"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800600" y="2286000"/>
            <a:ext cx="2389320" cy="3581280"/>
          </a:xfrm>
          <a:prstGeom prst="rect">
            <a:avLst/>
          </a:prstGeom>
          <a:ln w="0">
            <a:noFill/>
          </a:ln>
        </p:spPr>
      </p:pic>
      <p:sp>
        <p:nvSpPr>
          <p:cNvPr id="8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3"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5"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atient</a:t>
            </a:r>
            <a:endParaRPr b="1" lang="en-US" sz="2800" spc="-1" strike="noStrike">
              <a:solidFill>
                <a:srgbClr val="000000"/>
              </a:solidFill>
              <a:latin typeface="Times New Roman"/>
            </a:endParaRPr>
          </a:p>
        </p:txBody>
      </p:sp>
      <p:pic>
        <p:nvPicPr>
          <p:cNvPr id="86" name="" descr=""/>
          <p:cNvPicPr/>
          <p:nvPr/>
        </p:nvPicPr>
        <p:blipFill>
          <a:blip r:embed="rId1"/>
          <a:stretch/>
        </p:blipFill>
        <p:spPr>
          <a:xfrm>
            <a:off x="4788000" y="2286000"/>
            <a:ext cx="243828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unctions of Nutrient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ovide Energy</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uild Tissue</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gulate Body Cellular Func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Energy is the capacity to do work</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2"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Energy is measured in kilocalories or 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000 calories = 1 kilo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 kilocalorie = 1 Calori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
          <p:cNvSpPr/>
          <p:nvPr/>
        </p:nvSpPr>
        <p:spPr>
          <a:xfrm>
            <a:off x="3124080" y="4419720"/>
            <a:ext cx="381240" cy="6094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68880" y="4952880"/>
            <a:ext cx="380880" cy="6098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6"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Caloric Measurement is approximat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pic>
        <p:nvPicPr>
          <p:cNvPr id="98" name="Picture 5" descr="digestive%20cartoon"/>
          <p:cNvPicPr/>
          <p:nvPr/>
        </p:nvPicPr>
        <p:blipFill>
          <a:blip r:embed="rId1"/>
          <a:stretch/>
        </p:blipFill>
        <p:spPr>
          <a:xfrm>
            <a:off x="2743200" y="1295280"/>
            <a:ext cx="3621240" cy="5257800"/>
          </a:xfrm>
          <a:prstGeom prst="rect">
            <a:avLst/>
          </a:prstGeom>
          <a:ln w="0">
            <a:noFill/>
          </a:ln>
        </p:spPr>
      </p:pic>
      <p:sp>
        <p:nvSpPr>
          <p:cNvPr id="99" name=""/>
          <p:cNvSpPr/>
          <p:nvPr/>
        </p:nvSpPr>
        <p:spPr>
          <a:xfrm>
            <a:off x="1296360" y="319104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tabolism</a:t>
            </a:r>
            <a:endParaRPr b="0" lang="en-US" sz="2800" spc="-1" strike="noStrike">
              <a:solidFill>
                <a:srgbClr val="000000"/>
              </a:solidFill>
              <a:latin typeface="Arial"/>
            </a:endParaRPr>
          </a:p>
        </p:txBody>
      </p:sp>
      <p:sp>
        <p:nvSpPr>
          <p:cNvPr id="100" name=""/>
          <p:cNvSpPr/>
          <p:nvPr/>
        </p:nvSpPr>
        <p:spPr>
          <a:xfrm>
            <a:off x="5945400" y="435780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bsorption</a:t>
            </a:r>
            <a:endParaRPr b="0" lang="en-US" sz="2800" spc="-1" strike="noStrike">
              <a:solidFill>
                <a:srgbClr val="000000"/>
              </a:solidFill>
              <a:latin typeface="Arial"/>
            </a:endParaRPr>
          </a:p>
        </p:txBody>
      </p:sp>
      <p:sp>
        <p:nvSpPr>
          <p:cNvPr id="101" name=""/>
          <p:cNvSpPr/>
          <p:nvPr/>
        </p:nvSpPr>
        <p:spPr>
          <a:xfrm>
            <a:off x="5944680" y="213372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04"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sp table sugar weighs 4 gm.  How many kilocalories?</a:t>
            </a:r>
            <a:endParaRPr b="1" lang="en-US" sz="3200" spc="-1" strike="noStrike">
              <a:solidFill>
                <a:srgbClr val="000000"/>
              </a:solidFill>
              <a:latin typeface="Times New Roman"/>
            </a:endParaRPr>
          </a:p>
        </p:txBody>
      </p:sp>
      <p:pic>
        <p:nvPicPr>
          <p:cNvPr id="107" name="" descr=""/>
          <p:cNvPicPr/>
          <p:nvPr/>
        </p:nvPicPr>
        <p:blipFill>
          <a:blip r:embed="rId1"/>
          <a:stretch/>
        </p:blipFill>
        <p:spPr>
          <a:xfrm>
            <a:off x="3195720" y="4230720"/>
            <a:ext cx="2747880" cy="22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2"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trition - the study of the food people eat and how their bodies use that food</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ience – food requirements for body maintenance and func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 how foods and food information are present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rb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Carb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0"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2"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9</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3" name="" descr=""/>
          <p:cNvPicPr/>
          <p:nvPr/>
        </p:nvPicPr>
        <p:blipFill>
          <a:blip r:embed="rId1"/>
          <a:stretch/>
        </p:blipFill>
        <p:spPr>
          <a:xfrm>
            <a:off x="3581280" y="4724280"/>
            <a:ext cx="202248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5"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bsp olive oil weighs 14 gm.  How many kilocalories?</a:t>
            </a:r>
            <a:endParaRPr b="1" lang="en-US" sz="3200" spc="-1" strike="noStrike">
              <a:solidFill>
                <a:srgbClr val="000000"/>
              </a:solidFill>
              <a:latin typeface="Times New Roman"/>
            </a:endParaRPr>
          </a:p>
        </p:txBody>
      </p:sp>
      <p:pic>
        <p:nvPicPr>
          <p:cNvPr id="116" name="" descr=""/>
          <p:cNvPicPr/>
          <p:nvPr/>
        </p:nvPicPr>
        <p:blipFill>
          <a:blip r:embed="rId1"/>
          <a:stretch/>
        </p:blipFill>
        <p:spPr>
          <a:xfrm>
            <a:off x="3551400" y="4343400"/>
            <a:ext cx="20113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Fat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Fat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9" name="" descr=""/>
          <p:cNvPicPr/>
          <p:nvPr/>
        </p:nvPicPr>
        <p:blipFill>
          <a:blip r:embed="rId1"/>
          <a:stretch/>
        </p:blipFill>
        <p:spPr>
          <a:xfrm>
            <a:off x="3505320" y="4343400"/>
            <a:ext cx="232236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1"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2" name="" descr=""/>
          <p:cNvPicPr/>
          <p:nvPr/>
        </p:nvPicPr>
        <p:blipFill>
          <a:blip r:embed="rId1"/>
          <a:stretch/>
        </p:blipFill>
        <p:spPr>
          <a:xfrm>
            <a:off x="3429000" y="5029200"/>
            <a:ext cx="2286000" cy="163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4"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gg weighs 6 gm.  How many kilocalories in 3 egg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5" name="" descr=""/>
          <p:cNvPicPr/>
          <p:nvPr/>
        </p:nvPicPr>
        <p:blipFill>
          <a:blip r:embed="rId1"/>
          <a:stretch/>
        </p:blipFill>
        <p:spPr>
          <a:xfrm>
            <a:off x="3271680" y="39625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7"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8" name="" descr=""/>
          <p:cNvPicPr/>
          <p:nvPr/>
        </p:nvPicPr>
        <p:blipFill>
          <a:blip r:embed="rId1"/>
          <a:stretch/>
        </p:blipFill>
        <p:spPr>
          <a:xfrm>
            <a:off x="2971800" y="4381560"/>
            <a:ext cx="3352680" cy="24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0" name="PlaceHolder 2"/>
          <p:cNvSpPr>
            <a:spLocks noGrp="1"/>
          </p:cNvSpPr>
          <p:nvPr>
            <p:ph/>
          </p:nvPr>
        </p:nvSpPr>
        <p:spPr>
          <a:xfrm>
            <a:off x="2209680" y="114300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nergy Densit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
          <p:cNvSpPr/>
          <p:nvPr/>
        </p:nvSpPr>
        <p:spPr>
          <a:xfrm>
            <a:off x="129528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WER ENERGY DENSITY</a:t>
            </a:r>
            <a:endParaRPr b="0" lang="en-US" sz="1600" spc="-1" strike="noStrike">
              <a:solidFill>
                <a:srgbClr val="000000"/>
              </a:solidFill>
              <a:latin typeface="Arial"/>
            </a:endParaRPr>
          </a:p>
        </p:txBody>
      </p:sp>
      <p:sp>
        <p:nvSpPr>
          <p:cNvPr id="132" name=""/>
          <p:cNvSpPr/>
          <p:nvPr/>
        </p:nvSpPr>
        <p:spPr>
          <a:xfrm>
            <a:off x="480060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IGHER ENERGY DENSITY</a:t>
            </a:r>
            <a:endParaRPr b="0" lang="en-US" sz="1600" spc="-1" strike="noStrike">
              <a:solidFill>
                <a:srgbClr val="000000"/>
              </a:solidFill>
              <a:latin typeface="Arial"/>
            </a:endParaRPr>
          </a:p>
        </p:txBody>
      </p:sp>
      <p:sp>
        <p:nvSpPr>
          <p:cNvPr id="133" name=""/>
          <p:cNvSpPr/>
          <p:nvPr/>
        </p:nvSpPr>
        <p:spPr>
          <a:xfrm>
            <a:off x="1295280" y="5424480"/>
            <a:ext cx="30258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450-gram breakfast delivers 500 Kcalories.</a:t>
            </a:r>
            <a:endParaRPr b="0" lang="en-US" sz="1600" spc="-1" strike="noStrike">
              <a:solidFill>
                <a:srgbClr val="000000"/>
              </a:solidFill>
              <a:latin typeface="Arial"/>
            </a:endParaRPr>
          </a:p>
        </p:txBody>
      </p:sp>
      <p:sp>
        <p:nvSpPr>
          <p:cNvPr id="134" name=""/>
          <p:cNvSpPr/>
          <p:nvPr/>
        </p:nvSpPr>
        <p:spPr>
          <a:xfrm>
            <a:off x="4800600" y="5419800"/>
            <a:ext cx="30481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144-gram breakfast also delivers 500 kcalories.</a:t>
            </a:r>
            <a:endParaRPr b="0" lang="en-US" sz="1600" spc="-1" strike="noStrike">
              <a:solidFill>
                <a:srgbClr val="000000"/>
              </a:solidFill>
              <a:latin typeface="Arial"/>
            </a:endParaRPr>
          </a:p>
        </p:txBody>
      </p:sp>
      <p:pic>
        <p:nvPicPr>
          <p:cNvPr id="135" name="" descr=""/>
          <p:cNvPicPr/>
          <p:nvPr/>
        </p:nvPicPr>
        <p:blipFill>
          <a:blip r:embed="rId1"/>
          <a:stretch/>
        </p:blipFill>
        <p:spPr>
          <a:xfrm>
            <a:off x="1181160" y="1752480"/>
            <a:ext cx="3238560" cy="3238560"/>
          </a:xfrm>
          <a:prstGeom prst="rect">
            <a:avLst/>
          </a:prstGeom>
          <a:ln w="12600">
            <a:solidFill>
              <a:srgbClr val="000000"/>
            </a:solidFill>
            <a:miter/>
          </a:ln>
        </p:spPr>
      </p:pic>
      <p:pic>
        <p:nvPicPr>
          <p:cNvPr id="136" name="" descr=""/>
          <p:cNvPicPr/>
          <p:nvPr/>
        </p:nvPicPr>
        <p:blipFill>
          <a:blip r:embed="rId2"/>
          <a:stretch/>
        </p:blipFill>
        <p:spPr>
          <a:xfrm>
            <a:off x="4572000" y="1752480"/>
            <a:ext cx="3429000" cy="3260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8" name="PlaceHolder 2"/>
          <p:cNvSpPr>
            <a:spLocks noGrp="1"/>
          </p:cNvSpPr>
          <p:nvPr>
            <p:ph/>
          </p:nvPr>
        </p:nvSpPr>
        <p:spPr>
          <a:xfrm>
            <a:off x="2209680" y="190512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Macronutrients</a:t>
            </a:r>
            <a:r>
              <a:rPr b="1" lang="en-US" sz="3200" spc="-1" strike="noStrike">
                <a:solidFill>
                  <a:srgbClr val="000000"/>
                </a:solidFill>
                <a:latin typeface="Times New Roman"/>
              </a:rPr>
              <a:t> Provide </a:t>
            </a:r>
            <a:r>
              <a:rPr b="1" lang="en-US" sz="3200" spc="-1" strike="noStrike">
                <a:solidFill>
                  <a:srgbClr val="cc3300"/>
                </a:solidFill>
                <a:latin typeface="Times New Roman"/>
              </a:rPr>
              <a:t>Energ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39" name="" descr=""/>
          <p:cNvPicPr/>
          <p:nvPr/>
        </p:nvPicPr>
        <p:blipFill>
          <a:blip r:embed="rId1"/>
          <a:stretch/>
        </p:blipFill>
        <p:spPr>
          <a:xfrm>
            <a:off x="2057400" y="3243240"/>
            <a:ext cx="5029200" cy="3005280"/>
          </a:xfrm>
          <a:prstGeom prst="rect">
            <a:avLst/>
          </a:prstGeom>
          <a:ln w="0">
            <a:noFill/>
          </a:ln>
        </p:spPr>
      </p:pic>
      <p:sp>
        <p:nvSpPr>
          <p:cNvPr id="140" name=""/>
          <p:cNvSpPr/>
          <p:nvPr/>
        </p:nvSpPr>
        <p:spPr>
          <a:xfrm>
            <a:off x="5486400" y="4800600"/>
            <a:ext cx="1600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6200000">
            <a:off x="5155920" y="4977720"/>
            <a:ext cx="376200" cy="32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Amino Acid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4" name="" descr=""/>
          <p:cNvPicPr/>
          <p:nvPr/>
        </p:nvPicPr>
        <p:blipFill>
          <a:blip r:embed="rId1"/>
          <a:stretch/>
        </p:blipFill>
        <p:spPr>
          <a:xfrm>
            <a:off x="2146320" y="3921120"/>
            <a:ext cx="4711680" cy="286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4" name="PlaceHolder 2"/>
          <p:cNvSpPr>
            <a:spLocks noGrp="1"/>
          </p:cNvSpPr>
          <p:nvPr>
            <p:ph/>
          </p:nvPr>
        </p:nvSpPr>
        <p:spPr>
          <a:xfrm>
            <a:off x="1447560" y="1600200"/>
            <a:ext cx="28954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Science</a:t>
            </a:r>
            <a:endParaRPr b="1"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Controls</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to Disease</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s with Medications</a:t>
            </a:r>
            <a:endParaRPr b="1" lang="en-US" sz="2400" spc="-1" strike="noStrike">
              <a:solidFill>
                <a:srgbClr val="000000"/>
              </a:solidFill>
              <a:latin typeface="Times New Roman"/>
            </a:endParaRPr>
          </a:p>
        </p:txBody>
      </p:sp>
      <p:sp>
        <p:nvSpPr>
          <p:cNvPr id="55" name=""/>
          <p:cNvSpPr/>
          <p:nvPr/>
        </p:nvSpPr>
        <p:spPr>
          <a:xfrm>
            <a:off x="4952880" y="1600200"/>
            <a:ext cx="26672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rt</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lanning</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resentation</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Consider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Vitamin C</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ge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7" name="" descr=""/>
          <p:cNvPicPr/>
          <p:nvPr/>
        </p:nvPicPr>
        <p:blipFill>
          <a:blip r:embed="rId1"/>
          <a:stretch/>
        </p:blipFill>
        <p:spPr>
          <a:xfrm>
            <a:off x="2438280" y="4419720"/>
            <a:ext cx="4343400" cy="2359080"/>
          </a:xfrm>
          <a:prstGeom prst="rect">
            <a:avLst/>
          </a:prstGeom>
          <a:ln w="0">
            <a:noFill/>
          </a:ln>
        </p:spPr>
      </p:pic>
      <p:sp>
        <p:nvSpPr>
          <p:cNvPr id="148" name=""/>
          <p:cNvSpPr/>
          <p:nvPr/>
        </p:nvSpPr>
        <p:spPr>
          <a:xfrm>
            <a:off x="2362320" y="5638680"/>
            <a:ext cx="2209680" cy="3812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Iron</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moglobi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 descr=""/>
          <p:cNvPicPr/>
          <p:nvPr/>
        </p:nvPicPr>
        <p:blipFill>
          <a:blip r:embed="rId1"/>
          <a:stretch/>
        </p:blipFill>
        <p:spPr>
          <a:xfrm>
            <a:off x="3124080" y="4648320"/>
            <a:ext cx="2819520" cy="196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ty Acid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Wall – Structure and Transpor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4" name="" descr=""/>
          <p:cNvPicPr/>
          <p:nvPr/>
        </p:nvPicPr>
        <p:blipFill>
          <a:blip r:embed="rId1"/>
          <a:stretch/>
        </p:blipFill>
        <p:spPr>
          <a:xfrm>
            <a:off x="2971800" y="4911840"/>
            <a:ext cx="3048120" cy="156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 and 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Coenzyme Factor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7" name="" descr=""/>
          <p:cNvPicPr/>
          <p:nvPr/>
        </p:nvPicPr>
        <p:blipFill>
          <a:blip r:embed="rId1"/>
          <a:stretch/>
        </p:blipFill>
        <p:spPr>
          <a:xfrm>
            <a:off x="3343320" y="4540320"/>
            <a:ext cx="2448000" cy="201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Non-Nutrient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ater</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iber</a:t>
            </a:r>
            <a:endParaRPr b="1" lang="en-US" sz="3200" spc="-1" strike="noStrike">
              <a:solidFill>
                <a:srgbClr val="000000"/>
              </a:solidFill>
              <a:latin typeface="Times New Roman"/>
            </a:endParaRPr>
          </a:p>
        </p:txBody>
      </p:sp>
      <p:pic>
        <p:nvPicPr>
          <p:cNvPr id="160" name="" descr=""/>
          <p:cNvPicPr/>
          <p:nvPr/>
        </p:nvPicPr>
        <p:blipFill>
          <a:blip r:embed="rId1"/>
          <a:stretch/>
        </p:blipFill>
        <p:spPr>
          <a:xfrm>
            <a:off x="2971800" y="3505320"/>
            <a:ext cx="797040" cy="1295280"/>
          </a:xfrm>
          <a:prstGeom prst="rect">
            <a:avLst/>
          </a:prstGeom>
          <a:ln w="0">
            <a:noFill/>
          </a:ln>
        </p:spPr>
      </p:pic>
      <p:pic>
        <p:nvPicPr>
          <p:cNvPr id="161" name="" descr=""/>
          <p:cNvPicPr/>
          <p:nvPr/>
        </p:nvPicPr>
        <p:blipFill>
          <a:blip r:embed="rId2"/>
          <a:stretch/>
        </p:blipFill>
        <p:spPr>
          <a:xfrm>
            <a:off x="2438280" y="4876920"/>
            <a:ext cx="1752840" cy="13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a:t>
            </a:r>
            <a:endParaRPr b="1"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A single nutrient for each single food?</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Good nutrients vs bad nutri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5"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chieving Optimum Nutrition</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l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ver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Under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8120" y="3722760"/>
            <a:ext cx="3047760" cy="2373120"/>
          </a:xfrm>
          <a:prstGeom prst="rect">
            <a:avLst/>
          </a:prstGeom>
          <a:ln w="0">
            <a:noFill/>
          </a:ln>
        </p:spPr>
      </p:pic>
      <p:sp>
        <p:nvSpPr>
          <p:cNvPr id="1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8"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al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0"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Overnutritio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1" name="" descr=""/>
          <p:cNvPicPr/>
          <p:nvPr/>
        </p:nvPicPr>
        <p:blipFill>
          <a:blip r:embed="rId1"/>
          <a:stretch/>
        </p:blipFill>
        <p:spPr>
          <a:xfrm>
            <a:off x="3048120" y="3714840"/>
            <a:ext cx="3047760" cy="23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3"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Undernutrition</a:t>
            </a:r>
            <a:endParaRPr b="1" lang="en-US" sz="3200" spc="-1" strike="noStrike">
              <a:solidFill>
                <a:srgbClr val="000000"/>
              </a:solidFill>
              <a:latin typeface="Times New Roman"/>
            </a:endParaRPr>
          </a:p>
        </p:txBody>
      </p:sp>
      <p:pic>
        <p:nvPicPr>
          <p:cNvPr id="174" name="" descr=""/>
          <p:cNvPicPr/>
          <p:nvPr/>
        </p:nvPicPr>
        <p:blipFill>
          <a:blip r:embed="rId1"/>
          <a:stretch/>
        </p:blipFill>
        <p:spPr>
          <a:xfrm>
            <a:off x="3352680" y="3057480"/>
            <a:ext cx="2492640" cy="34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7"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study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Good Nutrition is essential to Wellness</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Poor Nutrition contributes to Disease</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keep themselves Healthy</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Educate patien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6" name="PlaceHolder 2"/>
          <p:cNvSpPr>
            <a:spLocks noGrp="1"/>
          </p:cNvSpPr>
          <p:nvPr>
            <p:ph/>
          </p:nvPr>
        </p:nvSpPr>
        <p:spPr>
          <a:xfrm>
            <a:off x="1523520" y="1905120"/>
            <a:ext cx="61722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ommunity                 Health Car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cc3300"/>
                </a:solidFill>
                <a:latin typeface="Times New Roman"/>
              </a:rPr>
              <a:t>Setting                          Setting</a:t>
            </a:r>
            <a:endParaRPr b="1" lang="en-US" sz="3200" spc="-1" strike="noStrike">
              <a:solidFill>
                <a:srgbClr val="000000"/>
              </a:solidFill>
              <a:latin typeface="Times New Roman"/>
            </a:endParaRPr>
          </a:p>
        </p:txBody>
      </p:sp>
      <p:pic>
        <p:nvPicPr>
          <p:cNvPr id="177" name="" descr=""/>
          <p:cNvPicPr/>
          <p:nvPr/>
        </p:nvPicPr>
        <p:blipFill>
          <a:blip r:embed="rId1"/>
          <a:stretch/>
        </p:blipFill>
        <p:spPr>
          <a:xfrm>
            <a:off x="4743360" y="3295800"/>
            <a:ext cx="3333960" cy="2800080"/>
          </a:xfrm>
          <a:prstGeom prst="rect">
            <a:avLst/>
          </a:prstGeom>
          <a:ln w="0">
            <a:noFill/>
          </a:ln>
        </p:spPr>
      </p:pic>
      <p:pic>
        <p:nvPicPr>
          <p:cNvPr id="178" name="" descr=""/>
          <p:cNvPicPr/>
          <p:nvPr/>
        </p:nvPicPr>
        <p:blipFill>
          <a:blip r:embed="rId2"/>
          <a:stretch/>
        </p:blipFill>
        <p:spPr>
          <a:xfrm>
            <a:off x="1219320" y="3276720"/>
            <a:ext cx="333360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0"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to http://www.mypyramid.gov/mypyramid/index.aspx</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YOUR Pyramid Pla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ore the Nutricalc CD that comes with your Nutrition Book.</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your Ideal Body Weight (IBW) and Body Mass Index (BMI)</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2"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a daily log of all the foods you eat for 2 day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s specific as possibl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condiment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beverages including wate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ng this log to the next cla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9"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needs to know about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60" name="" descr=""/>
          <p:cNvPicPr/>
          <p:nvPr/>
        </p:nvPicPr>
        <p:blipFill>
          <a:blip r:embed="rId1"/>
          <a:stretch/>
        </p:blipFill>
        <p:spPr>
          <a:xfrm>
            <a:off x="2652840" y="2514600"/>
            <a:ext cx="3747960" cy="3922560"/>
          </a:xfrm>
          <a:prstGeom prst="rect">
            <a:avLst/>
          </a:prstGeom>
          <a:ln w="0">
            <a:noFill/>
          </a:ln>
        </p:spPr>
      </p:pic>
      <p:sp>
        <p:nvSpPr>
          <p:cNvPr id="61" name=""/>
          <p:cNvSpPr/>
          <p:nvPr/>
        </p:nvSpPr>
        <p:spPr>
          <a:xfrm>
            <a:off x="3127680" y="3686040"/>
            <a:ext cx="28904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YOU</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D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2000"/>
                                        <p:tgtEl>
                                          <p:spTgt spid="60"/>
                                        </p:tgtEl>
                                      </p:cBhvr>
                                    </p:animEffect>
                                  </p:childTnLst>
                                </p:cTn>
                              </p:par>
                            </p:childTnLst>
                          </p:cTn>
                        </p:par>
                        <p:par>
                          <p:cTn id="8" fill="hold">
                            <p:stCondLst>
                              <p:cond delay="2000"/>
                            </p:stCondLst>
                            <p:childTnLst>
                              <p:par>
                                <p:cTn id="9" nodeType="afterEffect" fill="hold" presetClass="entr" presetID="51">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770"/>
                                        <p:tgtEl>
                                          <p:spTgt spid="61"/>
                                        </p:tgtEl>
                                      </p:cBhvr>
                                    </p:animEffect>
                                    <p:animScale>
                                      <p:cBhvr>
                                        <p:cTn id="12" dur="770" fill="hold"/>
                                        <p:tgtEl>
                                          <p:spTgt spid="61"/>
                                        </p:tgtEl>
                                      </p:cBhvr>
                                      <p:from x="10000" y="10000"/>
                                      <p:to x="200000" y="450000"/>
                                    </p:animScale>
                                    <p:animScale>
                                      <p:cBhvr>
                                        <p:cTn id="13" dur="1230" fill="hold">
                                          <p:stCondLst>
                                            <p:cond delay="770"/>
                                          </p:stCondLst>
                                        </p:cTn>
                                        <p:tgtEl>
                                          <p:spTgt spid="61"/>
                                        </p:tgtEl>
                                      </p:cBhvr>
                                      <p:from x="200000" y="450000"/>
                                      <p:to x="100000" y="100000"/>
                                    </p:animScale>
                                    <p:set>
                                      <p:cBhvr>
                                        <p:cTn id="14" dur="770" fill="hold"/>
                                        <p:tgtEl>
                                          <p:spTgt spid="61"/>
                                        </p:tgtEl>
                                        <p:attrNameLst>
                                          <p:attrName>ppt_x</p:attrName>
                                        </p:attrNameLst>
                                      </p:cBhvr>
                                      <p:to>
                                        <p:strVal val="(0.5)"/>
                                      </p:to>
                                    </p:set>
                                    <p:anim calcmode="lin" valueType="num" from="(0.5)" to="(#ppt_x)">
                                      <p:cBhvr additive="repl">
                                        <p:cTn id="15" dur="1230" fill="hold">
                                          <p:stCondLst>
                                            <p:cond delay="770"/>
                                          </p:stCondLst>
                                        </p:cTn>
                                        <p:tgtEl>
                                          <p:spTgt spid="61"/>
                                        </p:tgtEl>
                                        <p:attrNameLst>
                                          <p:attrName>ppt_x</p:attrName>
                                        </p:attrNameLst>
                                      </p:cBhvr>
                                    </p:anim>
                                    <p:set>
                                      <p:cBhvr>
                                        <p:cTn id="16" dur="770" fill="hold"/>
                                        <p:tgtEl>
                                          <p:spTgt spid="61"/>
                                        </p:tgtEl>
                                        <p:attrNameLst>
                                          <p:attrName>ppt_y</p:attrName>
                                        </p:attrNameLst>
                                      </p:cBhvr>
                                      <p:to>
                                        <p:strVal val="(#ppt_y+0.4)"/>
                                      </p:to>
                                    </p:set>
                                    <p:anim calcmode="lin" valueType="num" from="(#ppt_y+0.4)" to="(#ppt_y)">
                                      <p:cBhvr additive="repl">
                                        <p:cTn id="17"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63" name="PlaceHolder 2"/>
          <p:cNvSpPr>
            <a:spLocks noGrp="1"/>
          </p:cNvSpPr>
          <p:nvPr>
            <p:ph/>
          </p:nvPr>
        </p:nvSpPr>
        <p:spPr>
          <a:xfrm>
            <a:off x="609120" y="5562360"/>
            <a:ext cx="8001000" cy="99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Wellness is more than the absence of disease</a:t>
            </a:r>
            <a:endParaRPr b="1"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4" name=""/>
          <p:cNvGrpSpPr/>
          <p:nvPr/>
        </p:nvGrpSpPr>
        <p:grpSpPr>
          <a:xfrm>
            <a:off x="2678040" y="1676520"/>
            <a:ext cx="3787920" cy="3790800"/>
            <a:chOff x="2678040" y="1676520"/>
            <a:chExt cx="3787920" cy="3790800"/>
          </a:xfrm>
        </p:grpSpPr>
        <p:pic>
          <p:nvPicPr>
            <p:cNvPr id="65" name="" descr=""/>
            <p:cNvPicPr/>
            <p:nvPr/>
          </p:nvPicPr>
          <p:blipFill>
            <a:blip r:embed="rId1"/>
            <a:stretch/>
          </p:blipFill>
          <p:spPr>
            <a:xfrm>
              <a:off x="2685960" y="1676520"/>
              <a:ext cx="3772080" cy="3790800"/>
            </a:xfrm>
            <a:prstGeom prst="rect">
              <a:avLst/>
            </a:prstGeom>
            <a:ln w="0">
              <a:noFill/>
            </a:ln>
          </p:spPr>
        </p:pic>
        <p:sp>
          <p:nvSpPr>
            <p:cNvPr id="66" name=""/>
            <p:cNvSpPr/>
            <p:nvPr/>
          </p:nvSpPr>
          <p:spPr>
            <a:xfrm>
              <a:off x="2678040" y="1679400"/>
              <a:ext cx="3787920" cy="37875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Nutrition</a:t>
            </a:r>
            <a:br>
              <a:rPr sz="4400"/>
            </a:br>
            <a:r>
              <a:rPr b="1" lang="en-US" sz="3200" spc="-1" strike="noStrike">
                <a:solidFill>
                  <a:srgbClr val="333399"/>
                </a:solidFill>
                <a:latin typeface="Times New Roman"/>
              </a:rPr>
              <a:t>Food Insecurity</a:t>
            </a:r>
            <a:endParaRPr b="1" lang="en-US" sz="3200" spc="-1" strike="noStrike">
              <a:solidFill>
                <a:srgbClr val="333399"/>
              </a:solidFill>
              <a:latin typeface="Times New Roman"/>
            </a:endParaRPr>
          </a:p>
        </p:txBody>
      </p:sp>
      <p:sp>
        <p:nvSpPr>
          <p:cNvPr id="68" name=""/>
          <p:cNvSpPr/>
          <p:nvPr/>
        </p:nvSpPr>
        <p:spPr>
          <a:xfrm>
            <a:off x="1811880" y="1447920"/>
            <a:ext cx="553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overty – Poor Access – Poor Knowledge</a:t>
            </a:r>
            <a:endParaRPr b="0" lang="en-US" sz="2400" spc="-1" strike="noStrike">
              <a:solidFill>
                <a:srgbClr val="000000"/>
              </a:solidFill>
              <a:latin typeface="Arial"/>
            </a:endParaRPr>
          </a:p>
        </p:txBody>
      </p:sp>
      <p:pic>
        <p:nvPicPr>
          <p:cNvPr id="69" name="" descr=""/>
          <p:cNvPicPr/>
          <p:nvPr/>
        </p:nvPicPr>
        <p:blipFill>
          <a:blip r:embed="rId1"/>
          <a:stretch/>
        </p:blipFill>
        <p:spPr>
          <a:xfrm>
            <a:off x="1676520" y="2209680"/>
            <a:ext cx="2857320" cy="1905120"/>
          </a:xfrm>
          <a:prstGeom prst="rect">
            <a:avLst/>
          </a:prstGeom>
          <a:ln w="0">
            <a:noFill/>
          </a:ln>
        </p:spPr>
      </p:pic>
      <p:pic>
        <p:nvPicPr>
          <p:cNvPr id="70" name="" descr=""/>
          <p:cNvPicPr/>
          <p:nvPr/>
        </p:nvPicPr>
        <p:blipFill>
          <a:blip r:embed="rId2"/>
          <a:stretch/>
        </p:blipFill>
        <p:spPr>
          <a:xfrm>
            <a:off x="4686480" y="2209680"/>
            <a:ext cx="2857320" cy="1905120"/>
          </a:xfrm>
          <a:prstGeom prst="rect">
            <a:avLst/>
          </a:prstGeom>
          <a:ln w="0">
            <a:noFill/>
          </a:ln>
        </p:spPr>
      </p:pic>
      <p:pic>
        <p:nvPicPr>
          <p:cNvPr id="71" name="" descr=""/>
          <p:cNvPicPr/>
          <p:nvPr/>
        </p:nvPicPr>
        <p:blipFill>
          <a:blip r:embed="rId3"/>
          <a:stretch/>
        </p:blipFill>
        <p:spPr>
          <a:xfrm>
            <a:off x="1676520" y="4267080"/>
            <a:ext cx="2857320" cy="1905120"/>
          </a:xfrm>
          <a:prstGeom prst="rect">
            <a:avLst/>
          </a:prstGeom>
          <a:ln w="0">
            <a:noFill/>
          </a:ln>
        </p:spPr>
      </p:pic>
      <p:pic>
        <p:nvPicPr>
          <p:cNvPr id="72" name="" descr=""/>
          <p:cNvPicPr/>
          <p:nvPr/>
        </p:nvPicPr>
        <p:blipFill>
          <a:blip r:embed="rId4"/>
          <a:stretch/>
        </p:blipFill>
        <p:spPr>
          <a:xfrm>
            <a:off x="4686480" y="426708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4"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rse Syllabus</a:t>
            </a:r>
            <a:endParaRPr b="1"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 (5 Hrs) – Food Analysis,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 (5 Hrs) –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I (7 Hrs) – Group Project,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V (5 Hrs) – T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6"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pic>
        <p:nvPicPr>
          <p:cNvPr id="77" name="" descr=""/>
          <p:cNvPicPr/>
          <p:nvPr/>
        </p:nvPicPr>
        <p:blipFill>
          <a:blip r:embed="rId1"/>
          <a:stretch/>
        </p:blipFill>
        <p:spPr>
          <a:xfrm>
            <a:off x="4781520" y="2286000"/>
            <a:ext cx="23814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4:37:14Z</dcterms:created>
  <dc:creator> Janet L. Terra</dc:creator>
  <dc:description/>
  <dc:language>en-US</dc:language>
  <cp:lastModifiedBy>User</cp:lastModifiedBy>
  <dcterms:modified xsi:type="dcterms:W3CDTF">2009-09-01T17:34:51Z</dcterms:modified>
  <cp:revision>51</cp:revision>
  <dc:subject>Introduction to Nutrition</dc:subject>
  <dc:title>Nutrition Unit 1 Hour 1</dc:title>
</cp:coreProperties>
</file>