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4A3E-0A59-4E5E-BD4F-11DCB8529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learned a lot about carbohydrates, fats, and proteins.  Let’s review the key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2 fatty acids is a diy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3 fatty acids (or glyceride chains) is called a triglycerides.  Triglycerides make up about 99% of all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so concerned about triglycerides?  (Associated with fatty deposits in blood vessels leading to stroke and heart att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are triglycerides found?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wo fatty acids have been found to have healthy benefits for cell tissue, heart function, and lowering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turated fat has the maximum number of hydrogen atoms possible in its molecular struc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nounsaturated fat has one double bond, where the 2 adjoining carbons have fewer hydrogens than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lyunsaturated fat contains 2 or more double carbon bonds with carbons having less than 2 hydrogens attached.</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a process where hydrogen is forced into the unsaturated fat molecule, breaking the double carbon bonds and saturating the fat with the maximum number of hydrogens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rans fat occurs when hydrogenation results in a ‘twisting’ of the molecule.  Why are we so concerned about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chemical digestion begins in the small intestine.  Bile, produced by the liver and stored in the gall bladder, is released into the small intestine.  Bile emulsifies the fat globules and then the lipid enzyme lipase breaks the fat down into single glycerides, then rebuilds to triglycerides.  The triglycerides are then absorbed in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made of 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ngle saccharide is a mono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3 monosaccharides are glucose, fruct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se glucose is the most important.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eant to be slowly burned for energy.  They are not meant to provide immediate, quick energy.  When there aren’t enough glucose / glycogen stores for immediate energy, fats are burned.  This can happen when the person doesn’t eat, or when there insulin isn’t being secreted in sufficient amounts to transport glucose into the cells.  (Diabetes)  The waste byproduct is ketones.  Ketones put the body into an acid state.  Ketones give a fruity odor to the breath and can also be detected in the ur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is definitely needed by the body.  The functions of fat are to provide energy, provide essential fatty acids, provide fat soluble vitamins and to provide flavor and satisfaction (sati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provide adipose tissue which helps to protect organs and to regulate temperature.  Fats provide cel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most important function of fat in the diet?  (Store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up in protein.  Why do fats need to be wrapped 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true fat, but it is found in all animal fats.  Cholesterol builds up on the blood vessel walls, leading to heart disease and strok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important lipoproteins are High Density Lipoproteins (HDL’s) and Low Density Lipoproteins (LDL’s).  What is the association between cholesterol and HDL’s / LD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calle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ajor dissa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are sucrose, lactose, and mal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one is table sugar?  Which one is the sugar found in milk?  Which is the sugar found in be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eptides are a short chain of 2 peptides, or 2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20 known amino acids.  Amino acids that cannot be manufactured in the body in the amounts needed are called indispensable amino acids.  Indispensable amino acids are similar to essential fatty acids in that the body  must get these nutrients from the di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mplete protein contains all 20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that work on proteins must be stored in an inactive form.  Special substances then activate these pre-enzymes to the active forms.  Protein digestion begins in the stomach with pepsin and is completed in the small intestine with trypsin.  The amino acids are then absorbed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gen released from the protein molecules attaches to other hydrogen molecules and forms ammonia.  The liver detoxifies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When more protein (nitrogen) is consumed than excreted, the person is said to be in positive nitrogen balance.  When less protein (nitrogen) is consumed than excreted, the person is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carbons, hydrogens, and oxygens of the protein molecule will be converted to triglycerides and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deficiency results in serious undernutrition states known as Kwashiorkor and Marasmus.  Kwashiorkor is a sudden deprivation (acute) of protein.  Marasmus is the result of chronic starvation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chains of joined monosaccharides are poly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are complex carbohydrates, or st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stores glucose as glycogen, a poly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stored in the liver and the musc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s give some examples of foods and how they rank with the macro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glucose that is eaten is converted to adipose tissue, or body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carbohydrates begins in the mouth with the enzyme salivary amyl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finishes in the small intestine with pancreatic amylase and 3 very specific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the functions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half, or slightly more, of the daily diet should consist of carbohydrates.  In addition, the Dietary Guidelines for Americans recommends that carbohydrates be in the form of complex carbohydrates rather than simple sugars, and that they choose carbohydrates contain fib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ade of glycerol and a glyceride chain called a fatty ac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one fatty acid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D3C32-0047-44D0-9692-37661365C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3864-E097-42C7-80D0-42FD0400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73366-3A67-48DA-AC19-3BA59CF46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09018-10AB-40BF-B460-C6E0A641C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E5AA3-5E97-4F9A-8CA9-E4164E7F0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4211E-97E5-4899-A972-0ECB24996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4392-6803-47A0-A9A1-FFF7FD863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950F1-9F43-4EDF-9FB0-6CAA896A0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1874-F529-4710-8E9E-B9CBD4F9C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D48B-4C64-4801-A3A6-9785A15A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7506-B831-4071-943B-E8C74772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F6CB-CB09-4D1A-8DB3-8BCEB63A8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5AB4-C488-47DE-B0AE-A4E5D04D0E9C}"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EE11-A858-4854-93CD-C4B7A7B74F1A}"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83982200-AF50-4F52-BE21-FE4BA1763C3F}" type="datetime10">
              <a:rPr b="1" lang="en-US" sz="1400" spc="-1" strike="noStrike">
                <a:solidFill>
                  <a:srgbClr val="99cc00"/>
                </a:solidFill>
                <a:latin typeface="Times New Roman"/>
              </a:rPr>
              <a:t>02:03</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nit II Review and Application</a:t>
            </a:r>
            <a:endParaRPr b="1" lang="en-US" sz="4400" spc="-1" strike="noStrike">
              <a:solidFill>
                <a:srgbClr val="333399"/>
              </a:solidFill>
              <a:latin typeface="Verdana"/>
            </a:endParaRPr>
          </a:p>
        </p:txBody>
      </p:sp>
      <p:pic>
        <p:nvPicPr>
          <p:cNvPr id="50" name="" descr=""/>
          <p:cNvPicPr/>
          <p:nvPr/>
        </p:nvPicPr>
        <p:blipFill>
          <a:blip r:embed="rId1"/>
          <a:stretch/>
        </p:blipFill>
        <p:spPr>
          <a:xfrm>
            <a:off x="914400" y="1938240"/>
            <a:ext cx="3105000" cy="2328840"/>
          </a:xfrm>
          <a:prstGeom prst="rect">
            <a:avLst/>
          </a:prstGeom>
          <a:ln w="0">
            <a:noFill/>
          </a:ln>
        </p:spPr>
      </p:pic>
      <p:pic>
        <p:nvPicPr>
          <p:cNvPr id="51" name="" descr=""/>
          <p:cNvPicPr/>
          <p:nvPr/>
        </p:nvPicPr>
        <p:blipFill>
          <a:blip r:embed="rId2"/>
          <a:stretch/>
        </p:blipFill>
        <p:spPr>
          <a:xfrm>
            <a:off x="4800600" y="1790640"/>
            <a:ext cx="3524400" cy="2057400"/>
          </a:xfrm>
          <a:prstGeom prst="rect">
            <a:avLst/>
          </a:prstGeom>
          <a:ln w="0">
            <a:noFill/>
          </a:ln>
        </p:spPr>
      </p:pic>
      <p:pic>
        <p:nvPicPr>
          <p:cNvPr id="52" name="" descr=""/>
          <p:cNvPicPr/>
          <p:nvPr/>
        </p:nvPicPr>
        <p:blipFill>
          <a:blip r:embed="rId3"/>
          <a:stretch/>
        </p:blipFill>
        <p:spPr>
          <a:xfrm>
            <a:off x="4724280" y="3848040"/>
            <a:ext cx="2438640" cy="2247840"/>
          </a:xfrm>
          <a:prstGeom prst="rect">
            <a:avLst/>
          </a:prstGeom>
          <a:ln w="0">
            <a:noFill/>
          </a:ln>
        </p:spPr>
      </p:pic>
      <p:pic>
        <p:nvPicPr>
          <p:cNvPr id="53" name="" descr=""/>
          <p:cNvPicPr/>
          <p:nvPr/>
        </p:nvPicPr>
        <p:blipFill>
          <a:blip r:embed="rId4"/>
          <a:stretch/>
        </p:blipFill>
        <p:spPr>
          <a:xfrm>
            <a:off x="2666880" y="4381560"/>
            <a:ext cx="142884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4"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3"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4"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56"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4"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5"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327"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pic>
        <p:nvPicPr>
          <p:cNvPr id="330" name="" descr=""/>
          <p:cNvPicPr/>
          <p:nvPr/>
        </p:nvPicPr>
        <p:blipFill>
          <a:blip r:embed="rId1"/>
          <a:stretch/>
        </p:blipFill>
        <p:spPr>
          <a:xfrm>
            <a:off x="3381480" y="2476440"/>
            <a:ext cx="2381040" cy="1905120"/>
          </a:xfrm>
          <a:prstGeom prst="rect">
            <a:avLst/>
          </a:prstGeom>
          <a:ln w="0">
            <a:noFill/>
          </a:ln>
        </p:spPr>
      </p:pic>
      <p:pic>
        <p:nvPicPr>
          <p:cNvPr id="331" name="" descr=""/>
          <p:cNvPicPr/>
          <p:nvPr/>
        </p:nvPicPr>
        <p:blipFill>
          <a:blip r:embed="rId2"/>
          <a:stretch/>
        </p:blipFill>
        <p:spPr>
          <a:xfrm>
            <a:off x="1484280" y="2971800"/>
            <a:ext cx="1335240" cy="1371600"/>
          </a:xfrm>
          <a:prstGeom prst="rect">
            <a:avLst/>
          </a:prstGeom>
          <a:ln w="0">
            <a:noFill/>
          </a:ln>
        </p:spPr>
      </p:pic>
      <p:pic>
        <p:nvPicPr>
          <p:cNvPr id="332"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33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38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3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unsaturated Fat – PUF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666880" y="1452600"/>
            <a:ext cx="3810240" cy="3952800"/>
          </a:xfrm>
          <a:prstGeom prst="rect">
            <a:avLst/>
          </a:prstGeom>
          <a:ln w="0">
            <a:noFill/>
          </a:ln>
        </p:spPr>
      </p:pic>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47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48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524" name=""/>
          <p:cNvGrpSpPr/>
          <p:nvPr/>
        </p:nvGrpSpPr>
        <p:grpSpPr>
          <a:xfrm>
            <a:off x="228600" y="4800600"/>
            <a:ext cx="3124080" cy="1600200"/>
            <a:chOff x="228600" y="4800600"/>
            <a:chExt cx="3124080" cy="1600200"/>
          </a:xfrm>
        </p:grpSpPr>
        <p:sp>
          <p:nvSpPr>
            <p:cNvPr id="525"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45" name="" descr=""/>
          <p:cNvPicPr/>
          <p:nvPr/>
        </p:nvPicPr>
        <p:blipFill>
          <a:blip r:embed="rId2"/>
          <a:stretch/>
        </p:blipFill>
        <p:spPr>
          <a:xfrm>
            <a:off x="304920" y="1905120"/>
            <a:ext cx="3800520" cy="3047760"/>
          </a:xfrm>
          <a:prstGeom prst="rect">
            <a:avLst/>
          </a:prstGeom>
          <a:ln w="0">
            <a:noFill/>
          </a:ln>
        </p:spPr>
      </p:pic>
      <p:sp>
        <p:nvSpPr>
          <p:cNvPr id="5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547"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548"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60"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1"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2"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5"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6"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5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1"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2"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3"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574"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575"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576"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59"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914400" y="2357280"/>
            <a:ext cx="2857680" cy="2143440"/>
          </a:xfrm>
          <a:prstGeom prst="rect">
            <a:avLst/>
          </a:prstGeom>
          <a:ln w="0">
            <a:noFill/>
          </a:ln>
        </p:spPr>
      </p:pic>
      <p:sp>
        <p:nvSpPr>
          <p:cNvPr id="57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579"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80"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58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82"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Immediate Energy</a:t>
            </a:r>
            <a:endParaRPr b="1" lang="en-US" sz="4400" spc="-1" strike="noStrike">
              <a:solidFill>
                <a:srgbClr val="333399"/>
              </a:solidFill>
              <a:latin typeface="Verdana"/>
            </a:endParaRPr>
          </a:p>
        </p:txBody>
      </p:sp>
      <p:pic>
        <p:nvPicPr>
          <p:cNvPr id="584"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58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588"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590"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592" name="" descr=""/>
          <p:cNvPicPr/>
          <p:nvPr/>
        </p:nvPicPr>
        <p:blipFill>
          <a:blip r:embed="rId1"/>
          <a:stretch/>
        </p:blipFill>
        <p:spPr>
          <a:xfrm>
            <a:off x="990720" y="1905120"/>
            <a:ext cx="3809880" cy="3047760"/>
          </a:xfrm>
          <a:prstGeom prst="rect">
            <a:avLst/>
          </a:prstGeom>
          <a:ln w="0">
            <a:noFill/>
          </a:ln>
        </p:spPr>
      </p:pic>
      <p:pic>
        <p:nvPicPr>
          <p:cNvPr id="593"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595"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597"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598"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599"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600"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601"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602"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603"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604"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606" name="" descr=""/>
          <p:cNvPicPr/>
          <p:nvPr/>
        </p:nvPicPr>
        <p:blipFill>
          <a:blip r:embed="rId1"/>
          <a:stretch/>
        </p:blipFill>
        <p:spPr>
          <a:xfrm>
            <a:off x="3029040" y="2604960"/>
            <a:ext cx="3085920" cy="1648080"/>
          </a:xfrm>
          <a:prstGeom prst="rect">
            <a:avLst/>
          </a:prstGeom>
          <a:ln w="0">
            <a:noFill/>
          </a:ln>
        </p:spPr>
      </p:pic>
      <p:sp>
        <p:nvSpPr>
          <p:cNvPr id="60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0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0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6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5"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7" name=""/>
          <p:cNvCxnSpPr>
            <a:stCxn id="65" idx="2"/>
            <a:endCxn id="66"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68"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 name=""/>
          <p:cNvCxnSpPr>
            <a:stCxn id="68" idx="2"/>
            <a:endCxn id="69"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71"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72"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3"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7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6"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8" name=""/>
          <p:cNvCxnSpPr>
            <a:stCxn id="76" idx="2"/>
            <a:endCxn id="77" idx="1"/>
          </p:cNvCxnSpPr>
          <p:nvPr/>
        </p:nvCxnSpPr>
        <p:spPr>
          <a:xfrm rot="5400000">
            <a:off x="4896000" y="3943800"/>
            <a:ext cx="570600" cy="762840"/>
          </a:xfrm>
          <a:prstGeom prst="curvedConnector2">
            <a:avLst/>
          </a:prstGeom>
          <a:ln w="57240">
            <a:solidFill>
              <a:srgbClr val="333399"/>
            </a:solidFill>
            <a:miter/>
          </a:ln>
        </p:spPr>
      </p:cxnSp>
      <p:sp>
        <p:nvSpPr>
          <p:cNvPr id="7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8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81"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82"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61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17" name=""/>
          <p:cNvCxnSpPr>
            <a:stCxn id="61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9"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2" name=""/>
          <p:cNvCxnSpPr>
            <a:stCxn id="620" idx="3"/>
            <a:endCxn id="621" idx="1"/>
          </p:cNvCxnSpPr>
          <p:nvPr/>
        </p:nvCxnSpPr>
        <p:spPr>
          <a:xfrm>
            <a:off x="5486400" y="3544560"/>
            <a:ext cx="381600" cy="1080"/>
          </a:xfrm>
          <a:prstGeom prst="curvedConnector2">
            <a:avLst/>
          </a:prstGeom>
          <a:ln w="57240">
            <a:solidFill>
              <a:srgbClr val="bbe0e3"/>
            </a:solidFill>
            <a:miter/>
          </a:ln>
        </p:spPr>
      </p:cxnSp>
      <p:cxnSp>
        <p:nvCxnSpPr>
          <p:cNvPr id="623" name=""/>
          <p:cNvCxnSpPr>
            <a:stCxn id="619" idx="3"/>
            <a:endCxn id="620" idx="1"/>
          </p:cNvCxnSpPr>
          <p:nvPr/>
        </p:nvCxnSpPr>
        <p:spPr>
          <a:xfrm>
            <a:off x="3429000" y="3544560"/>
            <a:ext cx="381600" cy="1080"/>
          </a:xfrm>
          <a:prstGeom prst="curvedConnector2">
            <a:avLst/>
          </a:prstGeom>
          <a:ln w="57240">
            <a:solidFill>
              <a:srgbClr val="bbe0e3"/>
            </a:solidFill>
            <a:miter/>
          </a:ln>
        </p:spPr>
      </p:cxnSp>
      <p:sp>
        <p:nvSpPr>
          <p:cNvPr id="6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626"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pic>
        <p:nvPicPr>
          <p:cNvPr id="628"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6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631"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743200"/>
            <a:ext cx="3800520" cy="3048120"/>
          </a:xfrm>
          <a:prstGeom prst="rect">
            <a:avLst/>
          </a:prstGeom>
          <a:ln w="0">
            <a:noFill/>
          </a:ln>
        </p:spPr>
      </p:pic>
      <p:sp>
        <p:nvSpPr>
          <p:cNvPr id="6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4"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2971800" y="2181240"/>
            <a:ext cx="2968560" cy="3228840"/>
          </a:xfrm>
          <a:prstGeom prst="rect">
            <a:avLst/>
          </a:prstGeom>
          <a:ln w="0">
            <a:noFill/>
          </a:ln>
        </p:spPr>
      </p:pic>
      <p:sp>
        <p:nvSpPr>
          <p:cNvPr id="63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Liver</a:t>
            </a:r>
            <a:endParaRPr b="1"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640"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48"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49"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650"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58"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59"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660"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914400" y="2357280"/>
            <a:ext cx="2857680" cy="2143440"/>
          </a:xfrm>
          <a:prstGeom prst="rect">
            <a:avLst/>
          </a:prstGeom>
          <a:ln w="0">
            <a:noFill/>
          </a:ln>
        </p:spPr>
      </p:pic>
      <p:sp>
        <p:nvSpPr>
          <p:cNvPr id="6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663"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66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66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667" name="" descr=""/>
          <p:cNvPicPr/>
          <p:nvPr/>
        </p:nvPicPr>
        <p:blipFill>
          <a:blip r:embed="rId1"/>
          <a:stretch/>
        </p:blipFill>
        <p:spPr>
          <a:xfrm>
            <a:off x="895320" y="2933640"/>
            <a:ext cx="2762280" cy="3314880"/>
          </a:xfrm>
          <a:prstGeom prst="rect">
            <a:avLst/>
          </a:prstGeom>
          <a:ln w="0">
            <a:noFill/>
          </a:ln>
        </p:spPr>
      </p:pic>
      <p:sp>
        <p:nvSpPr>
          <p:cNvPr id="668" name=""/>
          <p:cNvSpPr/>
          <p:nvPr/>
        </p:nvSpPr>
        <p:spPr>
          <a:xfrm>
            <a:off x="914400" y="231624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pic>
        <p:nvPicPr>
          <p:cNvPr id="669" name="" descr=""/>
          <p:cNvPicPr/>
          <p:nvPr/>
        </p:nvPicPr>
        <p:blipFill>
          <a:blip r:embed="rId2"/>
          <a:stretch/>
        </p:blipFill>
        <p:spPr>
          <a:xfrm>
            <a:off x="5295960" y="3048120"/>
            <a:ext cx="270504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83" name=""/>
          <p:cNvGrpSpPr/>
          <p:nvPr/>
        </p:nvGrpSpPr>
        <p:grpSpPr>
          <a:xfrm>
            <a:off x="419040" y="2544840"/>
            <a:ext cx="8267760" cy="3322080"/>
            <a:chOff x="419040" y="2544840"/>
            <a:chExt cx="8267760" cy="3322080"/>
          </a:xfrm>
        </p:grpSpPr>
        <p:sp>
          <p:nvSpPr>
            <p:cNvPr id="8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671" name="" descr=""/>
          <p:cNvPicPr/>
          <p:nvPr/>
        </p:nvPicPr>
        <p:blipFill>
          <a:blip r:embed="rId1"/>
          <a:stretch/>
        </p:blipFill>
        <p:spPr>
          <a:xfrm>
            <a:off x="3029040" y="2604960"/>
            <a:ext cx="3085920" cy="1648080"/>
          </a:xfrm>
          <a:prstGeom prst="rect">
            <a:avLst/>
          </a:prstGeom>
          <a:ln w="0">
            <a:noFill/>
          </a:ln>
        </p:spPr>
      </p:pic>
      <p:sp>
        <p:nvSpPr>
          <p:cNvPr id="672"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73"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74"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2190600" y="1981080"/>
            <a:ext cx="476280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2357280"/>
            <a:ext cx="2857680" cy="2143440"/>
          </a:xfrm>
          <a:prstGeom prst="rect">
            <a:avLst/>
          </a:prstGeom>
          <a:ln w="0">
            <a:noFill/>
          </a:ln>
        </p:spPr>
      </p:pic>
      <p:sp>
        <p:nvSpPr>
          <p:cNvPr id="1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08"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109"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11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111"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11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15"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118" name=""/>
          <p:cNvGrpSpPr/>
          <p:nvPr/>
        </p:nvGrpSpPr>
        <p:grpSpPr>
          <a:xfrm>
            <a:off x="990720" y="2286000"/>
            <a:ext cx="1676160" cy="1449360"/>
            <a:chOff x="990720" y="2286000"/>
            <a:chExt cx="1676160" cy="1449360"/>
          </a:xfrm>
        </p:grpSpPr>
        <p:sp>
          <p:nvSpPr>
            <p:cNvPr id="119"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1"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122" name=""/>
          <p:cNvGrpSpPr/>
          <p:nvPr/>
        </p:nvGrpSpPr>
        <p:grpSpPr>
          <a:xfrm>
            <a:off x="6934320" y="2286000"/>
            <a:ext cx="1676160" cy="1449360"/>
            <a:chOff x="6934320" y="2286000"/>
            <a:chExt cx="1676160" cy="1449360"/>
          </a:xfrm>
        </p:grpSpPr>
        <p:sp>
          <p:nvSpPr>
            <p:cNvPr id="123"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26"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4723920" y="2590920"/>
            <a:ext cx="1676520" cy="1449360"/>
            <a:chOff x="4723920" y="2590920"/>
            <a:chExt cx="1676520" cy="1449360"/>
          </a:xfrm>
        </p:grpSpPr>
        <p:sp>
          <p:nvSpPr>
            <p:cNvPr id="12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3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31"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32"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133" name=""/>
          <p:cNvCxnSpPr>
            <a:stCxn id="134" idx="0"/>
            <a:endCxn id="115"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135"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28" idx="2"/>
            <a:endCxn id="130" idx="3"/>
          </p:cNvCxnSpPr>
          <p:nvPr/>
        </p:nvCxnSpPr>
        <p:spPr>
          <a:xfrm rot="5400000">
            <a:off x="4889880" y="3931200"/>
            <a:ext cx="564120" cy="781920"/>
          </a:xfrm>
          <a:prstGeom prst="curvedConnector2">
            <a:avLst/>
          </a:prstGeom>
          <a:ln w="57240">
            <a:solidFill>
              <a:srgbClr val="333399"/>
            </a:solidFill>
            <a:miter/>
          </a:ln>
        </p:spPr>
      </p:cxnSp>
      <p:sp>
        <p:nvSpPr>
          <p:cNvPr id="142"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9" name=""/>
          <p:cNvCxnSpPr>
            <a:stCxn id="123" idx="2"/>
            <a:endCxn id="116"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50"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158"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161"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137"/>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136"/>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136"/>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13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138"/>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13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134"/>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133"/>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135"/>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135"/>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139"/>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139"/>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140"/>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44"/>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118"/>
                                        </p:tgtEl>
                                      </p:cBhvr>
                                    </p:animMotion>
                                  </p:childTnLst>
                                </p:cTn>
                              </p:par>
                              <p:par>
                                <p:cTn id="51" nodeType="withEffect" fill="hold" presetClass="exit" presetID="1" repeatCount="1000">
                                  <p:stCondLst>
                                    <p:cond delay="0"/>
                                  </p:stCondLst>
                                  <p:childTnLst>
                                    <p:set>
                                      <p:cBhvr>
                                        <p:cTn id="52" dur="1" fill="hold">
                                          <p:stCondLst>
                                            <p:cond delay="0"/>
                                          </p:stCondLst>
                                        </p:cTn>
                                        <p:tgtEl>
                                          <p:spTgt spid="14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58"/>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143"/>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143"/>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45"/>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145"/>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148"/>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148"/>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141"/>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142"/>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127"/>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142"/>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146"/>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146"/>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14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15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159"/>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151"/>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151"/>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153"/>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153"/>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156"/>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149"/>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50"/>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150"/>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154"/>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154"/>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155"/>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122"/>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6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4"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66" name="" descr=""/>
          <p:cNvPicPr/>
          <p:nvPr/>
        </p:nvPicPr>
        <p:blipFill>
          <a:blip r:embed="rId1"/>
          <a:stretch/>
        </p:blipFill>
        <p:spPr>
          <a:xfrm>
            <a:off x="3029040" y="2604960"/>
            <a:ext cx="3085920" cy="1648080"/>
          </a:xfrm>
          <a:prstGeom prst="rect">
            <a:avLst/>
          </a:prstGeom>
          <a:ln w="0">
            <a:noFill/>
          </a:ln>
        </p:spPr>
      </p:pic>
      <p:sp>
        <p:nvSpPr>
          <p:cNvPr id="16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6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6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2"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0"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1"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20:02:27Z</dcterms:modified>
  <cp:revision>48</cp:revision>
  <dc:subject>Review of Digestion</dc:subject>
  <dc:title>BP Nutrition Unit II Digestion Overview</dc:title>
</cp:coreProperties>
</file>