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88B-807F-41ED-A3B7-B0B9B6BC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94EB-7B96-4D0E-8F9C-084AD3A66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rocess of how iodine deficiency leads to goit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rom Swartz MH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xtbook of physical diagno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d 5, Philadelphia, 2006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EF7-AB89-4878-B373-BFD77CF1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E4B-54B5-4891-B605-4984F70E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82D-4DF2-4C03-AE34-A3CF7B89F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640C-4637-4BDF-B3A2-4DA307C4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bsorption of dietary calcium depend 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food form and the interaction of three hormones that directly control absorption, along with indirect metabolic stimuli from the estrogen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most of the body’s calcium be foun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nes an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calcium in the bones acts as a pool for calcium that can then be used to maintain blood calcium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essential for muscle con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reduce the risk for developing osteoporosis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et, especially during childhood and adolescence, physical activity including weight-bearing exercises, not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in the class drink milk or eat dairy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green vegetables that are good sources of calciu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roccoli, spinach, k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A97-D609-4E88-9239-B302D859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ide: normal, healthy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: osteoporotic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bone looks easier to brea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ef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us osteoporotic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righ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han LK, Escott-Stump 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rause’s food &amp; nutrition therap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 12, Philadelphia, 2008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E3C9-EEC5-41ED-AC4E-51D9685B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360-12BD-4782-AB11-75F3B1B5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mineral is essential for bone and tooth forma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phosphorous in its backb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hosphorus deficiency does develop, what are the characteristic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eakness, loss of appetite, fatigue,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difficult for most Americans to meet the requirement for phosphor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the veg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DACB-1159-4A0C-AAC3-6730845D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120-52A0-4AC0-96F4-346F28276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function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is needed for glucose to be absorb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sodium can lead to what chronic disea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dietary source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able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alt sensitivit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CEF-B00C-4C8D-90F5-2239E3A8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A1C9-EE2A-4C84-A090-D076B8E7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4C8-B9E4-4ACE-BF49-72594225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and potassium work with each other to maintain water balance. Mention that sodium is extracellular and potassium is intracell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potassium raise or lower blood pres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re potassium deficiencies more likely to occu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ring clinical situations such as prolonged vomiting or diarrhea, during use of diuretic drugs, during use of hypertension drugs, as a result of severe malnutrition, or afte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sult of extremely high potassium level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tal arrhyth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most Americans meet the AI for potassium each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A57-32AB-4511-B137-F005A5E8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E85A-8F70-4CCA-B475-5A0B58BA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chloride is needed for digestion of all foods through hydrochl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reason for chloride deficiency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cessive fluid losses through vomiting, which leads to metabolic alka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known development of toxicity is through dehyd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6F7-F89E-4940-9C4F-E858E107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42FD-463A-44AA-9BB1-28FFB16B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69E-D314-4324-B32D-5D026A07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DE9-9B04-4416-9655-8F26C1F3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8EC-7286-42E4-9509-07270150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needs during growth periods and in clinical situations may require individual supplements of specific major minerals or trac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five high-risk groups that may need to supplement their diet and explain wh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olescent girls on poor diets, low-income adolescent boys, athletes, vegetarians, and elderly persons on poor di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82C-AC77-44AB-8A4B-98E6C4E04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four fundamental elements that make up most living matte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drogen, carbon, oxygen, and 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a trace element or a major mi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unlike carbohydrates, proteins, and fat, minerals do not require a great deal of mechanical or chemical digestion before 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9C2-258F-45CA-89A9-74DF83CD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792-2E29-485E-8D83-CE99550EB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F87-7031-4971-AA73-D58C76C6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the body’s iron occurs wher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is most well known for its role in hemoglobin and therefore its essentiality in oxygen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ne clinical test to determine iron-deficiency anemi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globin levels, hematoc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omen need more iron than men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hemochromatosis is a genetic condition enabling the body to retain more iron tha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igns and symptoms of iron-deficiency an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3B0-EB4F-4924-AF0C-5FDEAC7E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CF9-DB78-492B-B966-F9EB7D4CD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yroxine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gulates metabolic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thyroid gland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hypothyroidism and hyperthyroid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tinism results from a mother eating insufficient amounts of iodine during fetal develop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haracteristics of creti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5D1-668E-4D08-9A91-F2B90BC2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790-574B-40DE-B502-3C5CB4D2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591-88A2-487A-B069-4E27A8AC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5B6-0533-4E94-9C05-485D6E6D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395-6BC5-41AF-81C3-F794B344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B75-4E85-4D8C-874B-49B67DA2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B99-0A33-446E-975F-E090715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321-00CD-43CA-A4D1-1B6C49F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C30-8156-4429-AB2B-7670514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A9A-0D39-4CB9-8F68-E0B6C64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9B2-4FB8-416A-8B6A-D563951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C411-F165-43C5-AFA7-C81E8D2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F92-C6E4-490D-B58E-3D132C9A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511-1667-457D-B7F7-A5713B5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7D32-5C54-424B-9733-6EDAE653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C6AE-F317-4FE5-8775-EECB9FFD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BD7-F473-46DC-8380-4BF800A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C8B-DCB7-4700-A277-580EA36B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44C-1E9D-4EBC-A7E1-F3A4D3A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F24-DE75-4E4D-B07E-9427D866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A24-2006-4E45-AD5F-450CE2E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ECC-93A6-498A-8810-8FF9946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2C3-EA0C-4628-B7CB-92F3FFF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F3A-00F3-4F09-B930-D9ADC84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7DD-8C32-4A49-A9DA-6D8A6BA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A75-1EF2-449B-9345-43B12358976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553080"/>
            <a:ext cx="60962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A2F-10E9-4EB3-815F-24248714936B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4F27-4586-4162-8CBB-EF209CCBDFB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8D2-B9E6-4AAF-A91B-2F2A294EC5BB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629400"/>
            <a:ext cx="6096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hapter 8 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Minerals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2D17-D86A-400C-A6E1-A05E1151AC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Goiter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51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1440" y="2438280"/>
            <a:ext cx="381168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836-606E-47D1-8634-94EC470E4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BFD-C520-4569-A51D-7551B7120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BCB-1171-4CAF-A134-AF2B7C40C6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clot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nd nerv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sorption of B12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tivation of pancreatic lipas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retion of insu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membrane permeability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787-B734-4567-A38E-79CBEA509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000 mg/day (divided dose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lk is the major food source (Vit 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een vegetables, fish with bones, fortifi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748-70D6-478E-80F9-EDC59C600A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steoporosi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10640" cy="46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17E-E52F-4413-8FBC-15A5621B2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ergy metabolis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xidation of carbohydrate, fat, and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nergy and protein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function and genetic inherita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onent of enzymes, thiamin, DNA/RNA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B00-CC9E-4763-9665-B76EF6B8B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700 m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lk, milk products, fish, egg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450-C953-4A73-84A0-577C792B66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Nutrient 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A66-2A1A-4FCD-8567-F5D0FCD09A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I: 1.5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L: 2.3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lt sensitivity and hypertens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ble salt, cured meat, canned soups, process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07F-D0F8-4F6C-9F75-FDBEA0740D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human body requires a variety of minerals in different amounts to perform numerous metabolic tasks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2AA-281C-4CFC-BC25-228C1824DC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version of blood glucose to glycoge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age of nitrogen in muscle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duction of energ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sulin rele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6A8-922D-4786-A4AC-4FC39A6978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4.7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uits, vegetables, whole grains, fresh mea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CFB-C597-4417-8F23-5EB2EAFAE2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ey element in hydrochloric acid secre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06A-F740-4578-B39B-D22B580102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2.3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ble s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CC7-8C56-489C-B3A6-F7C6F03C3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B3D-8F03-4199-9026-B1B7863486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C66-351D-4BA4-992C-B716A4BB8B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mmary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DAs have not been set for all mineral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s or ULs have been set for almost all essential minerals without RDA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supplementation is still under much debat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38F-1539-42B9-8FA8-39272244A8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ineral Supplementation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fe cycle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gnancy and lact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olesce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ulthoo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ron-deficiency anemi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nc deficienc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8F5-F558-43E8-B2CA-059CCDBF81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Nature of Body Mineral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asses of body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ce elements (&l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jor minerals (&g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 of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metabolis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A4C-ECCA-4666-A815-380D98843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C3B-2874-4291-8D8A-9E97F9D312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3CE-D403-404A-A686-A0AFECCAB1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globin synthe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eneral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per glucose metabolism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tibody produ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rug detoxification in the liv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lagen and purine synthe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version of carotene to vitamin A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BB9-93DA-493E-A716-035527BF4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1 mg/day for 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8 mg/day for fe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nemi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chromatosis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(genetic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AB5-D93F-4EF7-9027-984208620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ticipation in thyroid gland’s synthesis of thyroxin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0 mc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E27-90F7-4C58-8A99-EE7B3A199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retin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o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odized table salt, seafood; depends on soil cont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351-19CC-4F5F-B4F3-B9402E523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 </cp:lastModifiedBy>
  <cp:lastPrinted>2005-01-19T16:04:07Z</cp:lastPrinted>
  <dcterms:modified xsi:type="dcterms:W3CDTF">2010-03-01T19:46:16Z</dcterms:modified>
  <cp:revision>129</cp:revision>
  <dc:subject/>
  <dc:title>PowerPoint Presentation</dc:title>
</cp:coreProperties>
</file>