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lick to move the slide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EC72-DF75-4669-9D10-83BD9C48B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C1E2-BD82-498C-8989-A5BCB5574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rocess of how iodine deficiency leads to goit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gure 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From Swartz MH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xtbook of physical diagno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d 5, Philadelphia, 2006, Saun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1B06-98E7-4831-AEA4-10B7E1FE8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00 mg/day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26C5-40C8-4FA8-99D8-55C936679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60D0-4268-44B7-85A5-337EF5036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F92C-9AE6-41C2-99A1-2E9D65CDC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absorption of dietary calcium depend o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food form and the interaction of three hormones that directly control absorption, along with indirect metabolic stimuli from the estrogen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most of the body’s calcium be found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ones an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calcium in the bones acts as a pool for calcium that can then be used to maintain blood calcium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essential for muscle con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reduce the risk for developing osteoporosis?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et, especially during childhood and adolescence, physical activity including weight-bearing exercises, not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in the class drink milk or eat dairy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green vegetables that are good sources of calcium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roccoli, spinach, k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865F-F85F-4211-89CF-5847D86B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side: normal, healthy 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: osteoporotic 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bone looks easier to brea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gure 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bon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eft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us osteoporotic bon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right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Mahan LK, Escott-Stump S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rause’s food &amp; nutrition therap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 12, Philadelphia, 2008, Saun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CEB4-7B12-4340-A5B2-E022070CD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D2E3-9D28-42ED-9204-4B0FD67A1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mineral is essential for bone and tooth formatio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phosphorous in its backb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hosphorus deficiency does develop, what are the characteristics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eakness, loss of appetite, fatigue,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difficult for most Americans to meet the requirement for phosphor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 the veg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43D6-F3F4-4385-BAE9-50421239E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C00C-4D41-4705-AD45-BFAF58376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function of sodium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sodium is needed for glucose to be absorb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sodium can lead to what chronic disease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dietary source of sodium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able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alt sensitivit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9952-080F-4C44-B5D8-379BD262C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46AC-09EF-4BAD-86EA-62BA51A6E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51E8-3338-48B2-A86D-A8A42B093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sodium and potassium work with each other to maintain water balance. Mention that sodium is extracellular and potassium is intracell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potassium raise or lower blood pres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re potassium deficiencies more likely to occur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uring clinical situations such as prolonged vomiting or diarrhea, during use of diuretic drugs, during use of hypertension drugs, as a result of severe malnutrition, or after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sult of extremely high potassium levels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atal arrhyth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most Americans meet the AI for potassium each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1904-F3E8-4F3D-9C1E-6F07DA384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270F-88A9-4ADA-9A4C-C71A1C77D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chloride is needed for digestion of all foods through hydrochl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imary reason for chloride deficiency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cessive fluid losses through vomiting, which leads to metabolic alkal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known development of toxicity is through dehyd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0851-4E9E-4085-B7E1-6F319C165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8068-5137-4C22-898A-341CC785B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A6CE-7774-42C0-BEC9-B8AC36DAD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8117-5494-4555-8EA2-B1F77B304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7206-D92D-4E1C-AD47-269E043E3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needs during growth periods and in clinical situations may require individual supplements of specific major minerals or trac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name five high-risk groups that may need to supplement their diet and explain why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olescent girls on poor diets, low-income adolescent boys, athletes, vegetarians, and elderly persons on poor di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6127-48B0-41EF-BDE9-8EF13C19F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four fundamental elements that make up most living matter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ydrogen, carbon, oxygen, and 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name a trace element or a major miner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unlike carbohydrates, proteins, and fat, minerals do not require a great deal of mechanical or chemical digestion before absor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37E2-F231-4B64-92FB-0235ACFF9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00 mg/day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186E-5826-474D-8AB0-9FD386717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7AEB-9539-4FC0-9FC2-525D4226F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the body’s iron occurs where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is most well known for its role in hemoglobin and therefore its essentiality in oxygen trans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one clinical test to determine iron-deficiency anemia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emoglobin levels, hematoc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omen need more iron than men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M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hemochromatosis is a genetic condition enabling the body to retain more iron than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signs and symptoms of iron-deficiency ane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876C-04CE-4F08-BF17-04EFC2BA8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F71A-B561-40FF-BF11-B069D35FB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unction of thyroxine?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gulates metabolic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thyroid gland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hypothyroidism and hyperthyroid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tinism results from a mother eating insufficient amounts of iodine during fetal developm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haracteristics of creti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2679-9C10-4702-AE88-B356C7814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4ED-B74B-487B-BCFB-B7E3772A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D57-34A4-4038-B99B-93256893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1D8-1D83-403E-8C69-560BB884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224-629D-4714-87E3-04B23FAD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E172-EF00-4DBC-BDA4-7AB29068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80A8-F590-4342-BF2B-B61BA814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137C-1AD2-455D-AF83-5A335B4C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6A00-194A-472A-A3FF-4D54BFDE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E70B-D3EE-47F8-9F70-FC824322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2476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B3AC-90D6-4668-A205-FC826F78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244F-D067-4F4D-8C80-9E77A430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47F-871A-414F-AA47-3103EE1C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4B1B-417F-422A-BCBE-821FBCED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3D10-4BA3-40CB-9460-F2DC5A47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E7D7-1603-44C3-938D-2B9F9751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8F07-615A-4401-A2CD-4F64A175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90C6-6B0E-4B1B-A0A2-C8353D8E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1C2-F573-4364-B3D5-A48A09E9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042-3669-48AA-BA94-A70736B7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F74-F720-44F6-AE0C-493A0879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476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A1A-D6A1-4A87-8E65-BA3D430A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909-144C-4F86-9DD3-9DE3CAFB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B52-869A-493F-BC9D-70254D2C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FC4-BBE6-4D2B-9843-CE7B411A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6B10-E2BC-4187-96E4-12AE6A84D85D}" type="datetime"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3880" y="6553080"/>
            <a:ext cx="60962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Copyright © 2009, by Mosby, Inc. an affiliate of Elsevier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D823-F8FE-46D6-8A61-DCB16AE6F2FF}" type="slidenum"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BE69-1FAB-43A9-9F08-A29B162BCDE9}" type="datetime"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08A4-4783-4EDB-A249-5C6E1D53390F}" type="slidenum"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6629400"/>
            <a:ext cx="6096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Copyright © 2009, by Mosby, Inc. an affiliate of Elsevier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a76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hapter 8 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a76"/>
                </a:solidFill>
                <a:latin typeface="Arial Rounded MT Bold"/>
              </a:rPr>
              <a:t>Minerals</a:t>
            </a: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DAE9-D117-4521-81AB-B9A4D87F6F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Goiter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886200" cy="351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1440" y="2438280"/>
            <a:ext cx="381168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827-9D81-46F6-B6D1-9ABE475402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ngane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lybden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b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Vanad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race Elemen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Selen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lu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A97-C3DB-4BD2-9704-7D8F0F5EC1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ajor Mineral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hl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588-69D7-462D-908B-9A61C9D89A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alciu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ne and tooth form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lood clott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scle and nerv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etabolic rea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sorption of B12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tivation of pancreatic lipas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cretion of insul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ll membrane permeability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E4D-573D-4812-A820-3CD4082CCC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alc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000 mg/day (divided doses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steoporosi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ilk is the major food source (Vit D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een vegetables, fish with bones, fortified foo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7F7-0008-417B-B57D-0AD3327FCA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Osteoporosi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7010640" cy="46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425-6009-4BA6-A955-E1E1C3BEE8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hosphorus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ne and tooth form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ergy metabolis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xidation of carbohydrate, fat, and prote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nergy and protein metabol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ll function and genetic inheritan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onent of enzymes, thiamin, DNA/RNA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cid-base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F9D-C48C-4849-AC3C-D649417210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hosphorus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700 m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ilk, milk products, fish, egg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D24-9EE3-4100-AEFE-A7BF322DDE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odium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ater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Acid-base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Muscl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Nutrient absorp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B89-9674-428C-8033-6C17161BF0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od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I: 1.5 g/da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L: 2.3 g/da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lt sensitivity and hypertens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able salt, cured meat, canned soups, processed foo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355-83F5-409C-9668-5AECB6DFBB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human body requires a variety of minerals in different amounts to perform numerous metabolic tasks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80E-542A-405C-A156-227378F8D8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otassium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ater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etabolic rea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version of blood glucose to glycoge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orage of nitrogen in muscle prote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oduction of energ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scl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sulin rele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7D2-0135-4D17-9FAA-3DC8E11F80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otass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I: 4.7 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ruits, vegetables, whole grains, fresh mea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38C-B56F-40CA-BDEE-E3FFA3FECE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hloride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Key element in hydrochloric acid secre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D00-8020-4427-AA66-46E1D06BFC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hloride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I: 2.3 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able s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F3D-BE7B-4136-8593-AFC4457E5C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ajor Mineral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hl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C86-A37D-4B46-88B5-B09818E781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mixed diet of varied foods and adequate energy value is the best source of the minerals necessary for health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f the total amount of minerals a person consumes, only a relatively limited amount is available to the body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D63-4981-4B98-B3BA-3F913FCBB7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ummary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DAs have not been set for all mineral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ls or ULs have been set for almost all essential minerals without RDA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neral supplementation is still under much debate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F26-8F08-4634-AA05-271EEDD114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ineral Supplementation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fe cycle need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egnancy and lact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dolesce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dulthoo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nical need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ron-deficiency anemia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Zinc deficienc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4D5-B3C3-426D-977C-E7089D21F3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e Nature of Body Minerals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asses of body mineral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race elements (&lt;100 mg/day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jor minerals (&gt;100 mg/day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 of mineral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neral metabolis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A56-6904-4EB5-8152-02F8108A44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mixed diet of varied foods and adequate energy value is the best source of the minerals necessary for health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f the total amount of minerals a person consumes, only a relatively limited amount is available to the body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D0B-DB38-48DC-A49B-740B443EED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ngane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lybden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b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Vanad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race Elemen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len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lu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FE7-BE25-4699-989C-722F884F51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ron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Hemoglobin synthesi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eneral metabol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oper glucose metabolism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tibody produc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rug detoxification in the liv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llagen and purine synthesi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version of carotene to vitamin A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784-3356-4D7E-9DB9-4279F75084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ron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8 to 11 mg/day for mal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8 to 18 mg/day for femal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nemia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Hemochromatosis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(genetic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78B-1B41-474B-91CA-D9B5CE24FC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odine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Participation in thyroid gland’s synthesis of thyroxin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150 mc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ACE-25C4-40F1-BA86-3052A23749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odine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iter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retin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ypothyroid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yperthyroid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odized table salt, seafood; depends on soil cont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615-218B-47DC-AFC0-D9A0447C16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 </cp:lastModifiedBy>
  <cp:lastPrinted>2005-01-19T16:04:07Z</cp:lastPrinted>
  <dcterms:modified xsi:type="dcterms:W3CDTF">2010-03-01T19:46:16Z</dcterms:modified>
  <cp:revision>129</cp:revision>
  <dc:subject/>
  <dc:title>PowerPoint Presentation</dc:title>
</cp:coreProperties>
</file>