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lick to move the slide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E1FC-44F2-41EB-A85F-E35F7561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E3DC-571D-4BBA-AED2-FF2E80C50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rocess of how iodine deficiency leads to goit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gure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From Swartz MH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xtbook of physical diagno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d 5, Philadelphia, 2006, Saun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FD6-E294-4103-B067-1FCFAE5B7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00 mg/day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58E3-E41C-432E-8745-096E190AB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4A37-8981-43A0-A822-DE1577F2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6DDF-0058-4338-9044-86EA53F9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absorption of dietary calcium depend 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food form and the interaction of three hormones that directly control absorption, along with indirect metabolic stimuli from the estrogen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most of the body’s calcium be found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ones an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calcium in the bones acts as a pool for calcium that can then be used to maintain blood calcium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essential for muscle con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reduce the risk for developing osteoporosis?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et, especially during childhood and adolescence, physical activity including weight-bearing exercises, not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in the class drink milk or eat dairy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green vegetables that are good sources of calciu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roccoli, spinach, k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1B19-FC9B-4635-9783-FD374120C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side: normal, healthy 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: osteoporotic 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bone looks easier to brea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gure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b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eft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us osteoporotic b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right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Mahan LK, Escott-Stump S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rause’s food &amp; nutrition therap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 12, Philadelphia, 2008, Saun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0C6C-A466-427C-909D-B6AD07FE4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54C1-298E-4A47-9BEC-EDC317ED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mineral is essential for bone and tooth formati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phosphorous in its backb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hosphorus deficiency does develop, what are the characteristic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eakness, loss of appetite, fatigue,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difficult for most Americans to meet the requirement for phosphor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 the veg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0943-E097-4BF7-B57B-72E680393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F7F1-B965-4751-8982-DA7C79D6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function of sodium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sodium is needed for glucose to be absorb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sodium can lead to what chronic diseas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dietary source of sodium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able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alt sensitivit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2A9B-2B00-4C44-B7DB-DEEC4CDE6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EF8C-2D1E-4D91-BFCA-984684791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9CA6-3332-4D25-A747-ECA54BF8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sodium and potassium work with each other to maintain water balance. Mention that sodium is extracellular and potassium is intracell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potassium raise or lower blood pres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re potassium deficiencies more likely to occur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uring clinical situations such as prolonged vomiting or diarrhea, during use of diuretic drugs, during use of hypertension drugs, as a result of severe malnutrition, or after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sult of extremely high potassium level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atal arrhyth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most Americans meet the AI for potassium each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E40-195D-4B60-BB5C-F13630DCF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1BB1-C8C5-4C5A-80AB-530975876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chloride is needed for digestion of all foods through hydrochl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imary reason for chloride deficiency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cessive fluid losses through vomiting, which leads to metabolic alka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known development of toxicity is through dehyd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55BD-ADCF-4A2A-8256-B5CACC453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26B1-13B4-4299-A4A0-B67863259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8D70-C0A6-40C8-B61B-327807905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74F1-79DC-480D-8B73-9392BA458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B280-F54F-43E1-8794-1F5C31B38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needs during growth periods and in clinical situations may require individual supplements of specific major minerals or trac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name five high-risk groups that may need to supplement their diet and explain why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olescent girls on poor diets, low-income adolescent boys, athletes, vegetarians, and elderly persons on poor di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E48C-0C77-4AFC-87C4-518E5D5D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four fundamental elements that make up most living matter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drogen, carbon, oxygen, and 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name a trace element or a major miner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unlike carbohydrates, proteins, and fat, minerals do not require a great deal of mechanical or chemical digestion before absor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350A-CA3E-4C71-9E49-51D69EDB8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00 mg/day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A661-58A4-4B0B-9690-4230EEC5F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01EA-059D-48E0-8EF7-47DD2C6C4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the body’s iron occurs wher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is most well known for its role in hemoglobin and therefore its essentiality in oxygen trans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one clinical test to determine iron-deficiency anemia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emoglobin levels, hematoc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omen need more iron than men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M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hemochromatosis is a genetic condition enabling the body to retain more iron than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signs and symptoms of iron-deficiency ane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A039-90C6-437A-AC1E-AA27C3B86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0136-F525-4B42-9040-D2853BB54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unction of thyroxine?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gulates metabolic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thyroid gland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hypothyroidism and hyperthyroid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tinism results from a mother eating insufficient amounts of iodine during fetal developm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haracteristics of creti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F94B-BA23-402B-96F3-206CBA260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A1E-C591-43E1-B9CC-8C11E60F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66A-3C40-4E9C-BD38-48858A42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FB9-7A77-48C6-8E19-EC7AB977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CBB-A24B-4636-8D9B-26233830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9492-9624-470A-BBFD-054A06CA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77B0-D33E-4FDF-89D2-425DF966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B06C-8372-4A29-94DC-B47504A4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45BE-BF06-485D-8CC5-B1741DE0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76B8-6AF6-461E-88E5-49BBB244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2476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1241-41ED-49A2-B01B-CA9C9418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CFD3-71A9-40F5-9AEA-5941120A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B3D-50C2-4C53-87E1-A6E53F48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51BB-B2B1-416B-B9FB-06477338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EBD-EFCB-41B2-B4DE-FEF7047A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829B-F5E1-4A05-A024-2F41B8BC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14C-F69B-49EB-8EBA-DF7A4618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AE88-92D3-40FA-91EF-7EA7A761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6B6-A027-4A5B-B3AA-D9C0AFD7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5FA-97B8-4127-9494-88BED2D4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5C2-F13C-4196-89E9-272D066F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476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F9A-3EC7-49FB-8C88-62F5CB0A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5D7-355D-472F-B4BD-F1BBB25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D9B-8860-4830-9491-EFB9CD37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0F3-3426-46F0-A6DA-26F7C1E7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BEC4-E230-426F-BD37-4F224E780D70}" type="datetime"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553080"/>
            <a:ext cx="60962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Copyright © 2009, by Mosby, Inc. an affiliate of Elsevier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23CC-7A14-41DF-9B3F-4183EC788512}" type="slidenum"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4ECA-FF0B-4C21-B5E5-3478FFBFF9CD}" type="datetime"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BA15-AFBD-4282-A948-E11A8C1D6042}" type="slidenum"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6629400"/>
            <a:ext cx="6096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Copyright © 2009, by Mosby, Inc. an affiliate of Elsevier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a76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hapter 8 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a76"/>
                </a:solidFill>
                <a:latin typeface="Arial Rounded MT Bold"/>
              </a:rPr>
              <a:t>Minerals</a:t>
            </a: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4F7F-541B-4662-9C31-5C34A30B43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Goiter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886200" cy="351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1440" y="2438280"/>
            <a:ext cx="381168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143-02F5-47DE-9137-CBB29CD211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gane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lybden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b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Vanad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race Elemen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lu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196-D9BC-4FE8-80B7-AF27D73D34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jor Mineral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7DC-3820-4289-AE8D-F8EA1B426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alciu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ne and tooth form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ood clott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scle and nerv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bolic rea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sorption of B12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tivation of pancreatic lipas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cretion of insul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ll membrane permeability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C65-A9B7-4FB9-9C73-68CEB7536A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alc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000 mg/day (divided doses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steoporosi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lk is the major food source (Vit D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een vegetables, fish with bones, fortified foo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B96-6DB8-430C-80E5-831F88E035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Osteoporosi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010640" cy="46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387-BED5-4F85-AFB8-2443127648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hosphorus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ne and tooth form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ergy metabolis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xidation of carbohydrate, fat, and prote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nergy and protein metabol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ll function and genetic inherita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onent of enzymes, thiamin, DNA/RNA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cid-base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7D7-B8E2-4C02-859F-B115AEDBF3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hosphorus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700 m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ilk, milk products, fish, egg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90D-6B96-44F0-AD9E-18085B2826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odium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ter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Acid-base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Muscl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Nutrient absor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7D6-C986-4B17-B75A-5BAA14E3E9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od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I: 1.5 g/da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L: 2.3 g/da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lt sensitivity and hypertens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ble salt, cured meat, canned soups, processed foo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57B-6E46-439B-813D-F85E0EBD1A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human body requires a variety of minerals in different amounts to perform numerous metabolic tasks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A46-ED51-4FD8-9809-AD80CB34A9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otassium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ter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bolic rea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version of blood glucose to glycoge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age of nitrogen in muscle prote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oduction of energ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scl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sulin rele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E3F-737E-4C80-8296-9099C2119C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otass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I: 4.7 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ruits, vegetables, whole grains, fresh mea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A14-648A-411F-8B30-C989C50340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hloride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Key element in hydrochloric acid secre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06D-45EF-4C03-8C0A-F259ED59D5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hloride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I: 2.3 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able s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754-B25F-4896-8B3E-2191ED1870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jor Mineral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C58-4D67-415A-B1C4-E5B8143FFE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mixed diet of varied foods and adequate energy value is the best source of the minerals necessary for health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 the total amount of minerals a person consumes, only a relatively limited amount is available to the body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A15-BBA1-43E2-B62F-6AEE0501DA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ummary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DAs have not been set for all mineral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ls or ULs have been set for almost all essential minerals without RDA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neral supplementation is still under much debat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357-E576-4D8B-AA42-D923DC3C62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ineral Supplementation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fe cycle need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egnancy and lact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dolesce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dulthoo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nical need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ron-deficiency anemi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Zinc deficienc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333-DE86-458E-8E6B-EBCBD06019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Nature of Body Minerals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asses of body miner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ce elements (&lt;100 mg/d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jor minerals (&gt;100 mg/d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 of miner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neral metabolis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2D7-EEC3-48F8-8C5E-978D1469B1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mixed diet of varied foods and adequate energy value is the best source of the minerals necessary for health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 the total amount of minerals a person consumes, only a relatively limited amount is available to the body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F22-D762-4A6F-8999-1DA0DBE288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gane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lybden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b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Vanad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race Elemen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lu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344-11AE-4E73-BD20-ACD140D34E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r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emoglobin synthesi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eneral metabol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per glucose metabolism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tibody produ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rug detoxification in the liv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llagen and purine synthesi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version of carotene to vitamin A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EB5-F344-422A-9106-49CB968BC0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ron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8 to 11 mg/day for mal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8 to 18 mg/day for femal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nemi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emochromatosis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(genetic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7D6-6060-45F4-94A7-4FE5976614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odine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Participation in thyroid gland’s synthesis of thyroxin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150 mc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5A2-D80F-490B-BAAD-56D85F96F2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odine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iter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retin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ypothyroid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odized table salt, seafood; depends on soil cont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87B-3791-4795-AB71-DD1DF20606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 </cp:lastModifiedBy>
  <cp:lastPrinted>2005-01-19T16:04:07Z</cp:lastPrinted>
  <dcterms:modified xsi:type="dcterms:W3CDTF">2010-03-01T19:46:16Z</dcterms:modified>
  <cp:revision>129</cp:revision>
  <dc:subject/>
  <dc:title>PowerPoint Presentation</dc:title>
</cp:coreProperties>
</file>