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lick to move the slide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D7BD-7971-4B99-9EA3-F7B95C92D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0A1A-36CE-40F6-AD9F-E84A46AA2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rocess of how iodine deficiency leads to goit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gure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From Swartz MH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xtbook of physical diagno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d 5, Philadelphia, 2006, Saun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7BEF-BC92-4A60-A19F-902CD4A50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00 mg/day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969F-3C99-4BD9-AEAF-40CB8C917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5649-9FA1-4BE2-B94B-771D73CC3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C4CA-C68A-4797-AC98-D6E2EEF2D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absorption of dietary calcium depend 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food form and the interaction of three hormones that directly control absorption, along with indirect metabolic stimuli from the estrogen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most of the body’s calcium be found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ones an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calcium in the bones acts as a pool for calcium that can then be used to maintain blood calcium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essential for muscle con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reduce the risk for developing osteoporosis?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et, especially during childhood and adolescence, physical activity including weight-bearing exercises, not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in the class drink milk or eat dairy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some of the green vegetables that are good sources of calciu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roccoli, spinach, k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E0C7-4E26-4742-9F83-4E3F93AD5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side: normal, healthy 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: osteoporotic 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bone looks easier to brea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gure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b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eft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us osteoporotic b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right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Mahan LK, Escott-Stump S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rause’s food &amp; nutrition therap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 12, Philadelphia, 2008, Saun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2002-E81E-412F-936B-0C27E5B99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D247-721A-485A-8731-CF741FC50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mineral is essential for bone and tooth formati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phosphorous in its backb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hosphorus deficiency does develop, what are the characteristic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eakness, loss of appetite, fatigue,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difficult for most Americans to meet the requirement for phosphor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 the veg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1294-A367-4D65-B456-32164C713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1A9A-49E1-4798-A040-91BF37AF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function of sodium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sodium is needed for glucose to be absorb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sodium can lead to what chronic diseas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dietary source of sodium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able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alt sensitivit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7779-D704-48D6-8D08-DBA5326A8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348E-3AFD-4E0C-9A61-4CE5A2163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ED39-1F94-447F-8FFF-FBE1DBCC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sodium and potassium work with each other to maintain water balance. Mention that sodium is extracellular and potassium is intracell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potassium raise or lower blood pres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re potassium deficiencies more likely to occur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uring clinical situations such as prolonged vomiting or diarrhea, during use of diuretic drugs, during use of hypertension drugs, as a result of severe malnutrition, or after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sult of extremely high potassium level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atal arrhyth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most Americans meet the AI for potassium each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B002-A802-491C-8E33-4673C879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B2F7-635E-4568-AD82-767FF888D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chloride is needed for digestion of all foods through hydrochl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rimary reason for chloride deficiency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cessive fluid losses through vomiting, which leads to metabolic alka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known development of toxicity is through dehyd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0135-9B27-49A4-9FF4-E5CCAE2F1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292F-B5C0-4C0B-82D2-54CAAB654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C669-48AD-4B35-95E7-B299E5F00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BBE5-EAFA-4FC4-BA9E-70DD0C4CE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155E-5E08-4504-BB82-85C7FB7CF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needs during growth periods and in clinical situations may require individual supplements of specific major minerals or trac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name five high-risk groups that may need to supplement their diet and explain why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olescent girls on poor diets, low-income adolescent boys, athletes, vegetarians, and elderly persons on poor di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917D-ED29-4BD1-9E21-4F00BD01E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four fundamental elements that make up most living matter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ydrogen, carbon, oxygen, and 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name a trace element or a major miner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unlike carbohydrates, proteins, and fat, minerals do not require a great deal of mechanical or chemical digestion before absor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48A4-05BB-4FA0-B799-A2F264C60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00 mg/day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1543-429E-4DA0-9CC3-BA7240C40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F0EC-A2E1-4177-A722-4EF0593E2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the body’s iron occurs wher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is most well known for its role in hemoglobin and therefore its essentiality in oxygen trans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one clinical test to determine iron-deficiency anemia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emoglobin levels, hematoc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omen need more iron than men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M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hemochromatosis is a genetic condition enabling the body to retain more iron than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signs and symptoms of iron-deficiency ane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2B17-DDF7-49EB-9CB0-CAF26DB5E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6ED2-550E-477A-8F5F-AE006856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unction of thyroxine?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gulates metabolic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thyroid gland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hypothyroidism and hyperthyroid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tinism results from a mother eating insufficient amounts of iodine during fetal developm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haracteristics of creti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9EF4-874B-442B-ACDA-401B8313F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381-D37E-4FF6-8555-B61BCE85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827-83F5-419B-8D4C-4CA62C4B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F89-6C95-4E4E-BC71-250D11B6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8BC-754A-4372-82B6-E486D73C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99AF-F713-4D2F-89E1-0005C181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B31F-7539-4C86-B6AE-8B37BCE2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DFCB-3A5C-4B17-AEF4-4FE01A41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F7BA-B438-4FA2-AB2C-D6D887E4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3A64-B584-4C4C-99AD-62F49B39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2476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513E-CF7F-4778-83D5-4575E27D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1AE0-0B2A-4A7D-85F2-D4D2D4BB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B20-ADB3-4820-B9C9-5C0A5CE4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7FC6-5C3F-497A-A158-22CBC692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3A72-3957-41D8-9C9A-895BD4F2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4F4A-1454-4BE1-8610-0DE8C7B2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726-4AB7-46FF-AAE3-959FE089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F203-45A1-4020-A287-DDF4512A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547-91F6-4063-A1F9-136FE9B6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3C9-5C53-425A-8C28-9ADBBE0C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744-0531-4B47-8743-9F5273EC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476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C31-59E6-4C25-ABD7-76C85445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662-C5F0-41A8-B23C-B21CC190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60D-FB25-4332-8F2C-80A0FDA0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8F5-2335-4EF2-9A96-03EF296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9BCE-FD5A-465B-B501-B10E22D11424}" type="datetime"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553080"/>
            <a:ext cx="60962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footer&g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Copyright © 2009, by Mosby, Inc. an affiliate of Elsevier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B573-C922-4DA1-A0C6-338836ABE8EC}" type="slidenum"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3129-8E94-4FDC-8267-32A17ADAC79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F915-0D7E-42E7-BC8B-253582E3CA46}" type="slidenum"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6629400"/>
            <a:ext cx="6096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Geneva"/>
              </a:rPr>
              <a:t>Copyright © 2009, by Mosby, Inc. an affiliate of Elsevier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a76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2a76"/>
                </a:solidFill>
                <a:latin typeface="Arial Rounded MT Bold"/>
              </a:rPr>
              <a:t>Chapter 8 </a:t>
            </a:r>
            <a:endParaRPr b="0" lang="en-US" sz="44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a76"/>
                </a:solidFill>
                <a:latin typeface="Arial Rounded MT Bold"/>
              </a:rPr>
              <a:t>Minerals</a:t>
            </a:r>
            <a:endParaRPr b="0" lang="en-US" sz="3200" spc="-1" strike="noStrike">
              <a:solidFill>
                <a:srgbClr val="4a2a7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ACCC-BF73-4B8E-987D-0D56CF2672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Goiter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886200" cy="351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1440" y="2438280"/>
            <a:ext cx="381168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DDA-B9F3-45CB-8D3C-E3BBDDF5E8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gane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lybden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b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Vanad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race Elemen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lu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94B-9598-444D-B592-85F96B314E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jor Mineral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132-E593-44F7-8A58-CBD966541F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alciu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ne and tooth form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ood clott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scle and nerv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bolic rea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bsorption of B12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tivation of pancreatic lipas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cretion of insul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ll membrane permeability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008-5222-4CB4-8CE6-B682F8D0EC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alc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000 mg/day (divided doses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steoporosi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lk is the major food source (Vit D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een vegetables, fish with bones, fortified foo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C61-7029-4713-B70A-B2A8C151B5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Osteoporosi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010640" cy="46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FAD-0C44-48EE-901A-6E5353CBB9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hosphorus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ne and tooth form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ergy metabolis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xidation of carbohydrate, fat, and prote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nergy and protein metabol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ll function and genetic inherita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onent of enzymes, thiamin, DNA/RNA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cid-base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CE5-346A-4F80-A60C-D5E4624DC4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hosphorus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700 m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ilk, milk products, fish, egg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189-C37E-4FD1-B60A-80CE932376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odium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ter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Acid-base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Muscl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Rounded MT Bold"/>
              </a:rPr>
              <a:t>Nutrient absor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6DC-ABF2-4EA6-A6BF-D82E7AFDB0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od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I: 1.5 g/da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L: 2.3 g/da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lt sensitivity and hypertens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ble salt, cured meat, canned soups, processed foo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51B-7FB0-4AB5-A97C-AA75177746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human body requires a variety of minerals in different amounts to perform numerous metabolic tasks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618-5CD1-40D7-B5DC-6F969F4C1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otassium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ter bala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bolic rea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version of blood glucose to glycoge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age of nitrogen in muscle prote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oduction of energ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scle a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sulin rele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81F-0F1D-414B-BD90-98658DD6E8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Potassium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I: 4.7 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ruits, vegetables, whole grains, fresh mea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937-98C0-406A-B8F6-C1AA0177A4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hloride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Key element in hydrochloric acid secre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DA6-BB63-4B4E-9F63-A9B7CC1F87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hloride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I: 2.3 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able s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DD5-728C-42B9-BAAE-FF56048E39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ajor Mineral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C2C-7BF5-4EB7-B858-96F6AE3A63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mixed diet of varied foods and adequate energy value is the best source of the minerals necessary for health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 the total amount of minerals a person consumes, only a relatively limited amount is available to the body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BEC-5A00-4A3D-A9D6-C86D77ADCB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ummary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DAs have not been set for all mineral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ls or ULs have been set for almost all essential minerals without RDA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neral supplementation is still under much debat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B48-B1FF-4A36-821A-982AC597CA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ineral Supplementation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fe cycle need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egnancy and lact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dolescenc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dulthoo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nical need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ron-deficiency anemi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Zinc deficienc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4BB-9294-4A16-9920-75599AF2AB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Nature of Body Minerals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asses of body miner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ce elements (&lt;100 mg/d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jor minerals (&gt;100 mg/d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 of miner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neral metabolis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B81-2FF1-4F4E-9FEE-CCA4BA327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Key Concep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mixed diet of varied foods and adequate energy value is the best source of the minerals necessary for health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 the total amount of minerals a person consumes, only a relatively limited amount is available to the body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0C1-B433-46B3-86AB-7908A320A8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gane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lybden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bal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Vanadiu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ick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race Elemen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lenium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luorid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760-AFF4-4D2F-B97C-4C343CA3D0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r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emoglobin synthesi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eneral metabol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per glucose metabolism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tibody produ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rug detoxification in the liver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llagen and purine synthesi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version of carotene to vitamin A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53A-C5AA-4091-A006-77368942EC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ron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8 to 11 mg/day for mal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8 to 18 mg/day for femal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nemi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Hemochromatosis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(genetic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911-C138-44BA-8047-793B27762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odine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Participation in thyroid gland’s synthesis of thyroxin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150 mcg/da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CE0-9796-417A-B97B-794172328E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47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odine, cont’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ficiency sta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iter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retin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ypothyroid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oxicity symptom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od sour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odized table salt, seafood; depends on soil cont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837-731F-41BB-A8E7-A48C4ED260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 </cp:lastModifiedBy>
  <cp:lastPrinted>2005-01-19T16:04:07Z</cp:lastPrinted>
  <dcterms:modified xsi:type="dcterms:W3CDTF">2010-03-01T19:46:16Z</dcterms:modified>
  <cp:revision>129</cp:revision>
  <dc:subject/>
  <dc:title>PowerPoint Presentation</dc:title>
</cp:coreProperties>
</file>